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6662C-CD69-4530-B95A-ED6CD8871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6B185-0BC9-4700-B40A-903D6BE40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A5B25-CA77-4840-89BA-279E84483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D899D-C30B-42CD-A854-ED842D7F4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837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F4CE9-BFC1-483E-AABE-EA82B6557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3FAEA-90AB-42E3-88D1-C8E4E6B71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07F49-CCA3-47B0-8BA4-A822CB143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E1D11-8EBE-4B1F-A57A-CE4F2D975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837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7AF52-7A3E-445D-8002-FAA1B7A60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1BD22-8773-497E-B99E-6C3D8F55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58577-2755-4D29-947B-460CBC1C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E7256-58B5-4701-8CE2-904F2D6C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89"/>
          <p:cNvGraphicFramePr/>
          <p:nvPr/>
        </p:nvGraphicFramePr>
        <p:xfrm>
          <a:off x="0" y="189000"/>
          <a:ext cx="9144000" cy="9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8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9000"/>
                    <a:ext cx="914400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Rectangle 90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Rectangle 91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8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1"/>
          </p:nvPr>
        </p:nvSpPr>
        <p:spPr>
          <a:xfrm>
            <a:off x="3428640" y="650844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40DE6-A00D-488E-B326-D8938FC52E5C}" type="slidenum"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400800" y="1080"/>
            <a:ext cx="266688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6095880" y="6559200"/>
            <a:ext cx="28958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1" descr=""/>
          <p:cNvPicPr/>
          <p:nvPr/>
        </p:nvPicPr>
        <p:blipFill>
          <a:blip r:embed="rId2"/>
          <a:stretch/>
        </p:blipFill>
        <p:spPr>
          <a:xfrm>
            <a:off x="0" y="0"/>
            <a:ext cx="9151920" cy="51768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89"/>
          <p:cNvSpPr/>
          <p:nvPr/>
        </p:nvSpPr>
        <p:spPr>
          <a:xfrm>
            <a:off x="0" y="4941720"/>
            <a:ext cx="915516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" name="Rectangle 90"/>
          <p:cNvSpPr/>
          <p:nvPr/>
        </p:nvSpPr>
        <p:spPr>
          <a:xfrm>
            <a:off x="0" y="5388120"/>
            <a:ext cx="9155160" cy="148104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8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9600" y="1973160"/>
            <a:ext cx="8107200" cy="61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Monotype Corsiva"/>
                <a:ea typeface="华文行楷"/>
              </a:rPr>
              <a:t>第十章  呼吸功能不全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752480" y="4952520"/>
            <a:ext cx="563904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respiratory insufficiency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47920" y="1295280"/>
            <a:ext cx="59436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Verdana"/>
                <a:ea typeface="黑体"/>
              </a:rPr>
              <a:t>一、肺通气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1066680" y="1905120"/>
            <a:ext cx="61722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正常人肺通气的完成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宋体"/>
              </a:rPr>
              <a:t>依赖于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: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1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.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中枢的正常调控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.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肌正常收缩与舒张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.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胸廓和肺的正常扩大与缩小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4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.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气道的通畅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295280" y="4859280"/>
            <a:ext cx="4800600" cy="1169280"/>
            <a:chOff x="1295280" y="4859280"/>
            <a:chExt cx="4800600" cy="1169280"/>
          </a:xfrm>
        </p:grpSpPr>
        <p:sp>
          <p:nvSpPr>
            <p:cNvPr id="189" name="PlaceHolder 2"/>
            <p:cNvSpPr>
              <a:spLocks noGrp="1"/>
            </p:cNvSpPr>
            <p:nvPr>
              <p:ph/>
            </p:nvPr>
          </p:nvSpPr>
          <p:spPr>
            <a:xfrm>
              <a:off x="1295280" y="5181480"/>
              <a:ext cx="189864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rmAutofit/>
            </a:bodyPr>
            <a:p>
              <a:pPr marL="343080" indent="0">
                <a:lnSpc>
                  <a:spcPct val="100000"/>
                </a:lnSpc>
                <a:spcBef>
                  <a:spcPts val="799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1d528d"/>
                  </a:solidFill>
                  <a:latin typeface="黑体"/>
                  <a:ea typeface="黑体"/>
                </a:rPr>
                <a:t> </a:t>
              </a:r>
              <a:r>
                <a:rPr b="0" lang="zh-CN" sz="3200" spc="-1" strike="noStrike">
                  <a:solidFill>
                    <a:srgbClr val="1d528d"/>
                  </a:solidFill>
                  <a:latin typeface="黑体"/>
                  <a:ea typeface="黑体"/>
                </a:rPr>
                <a:t>类型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81080" y="4859280"/>
              <a:ext cx="41148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d528d"/>
                  </a:solidFill>
                  <a:latin typeface="Times New Roman"/>
                  <a:ea typeface="宋体"/>
                </a:rPr>
                <a:t>限制性通气不足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d528d"/>
                  </a:solidFill>
                  <a:latin typeface="Times New Roman"/>
                  <a:ea typeface="宋体"/>
                </a:rPr>
                <a:t>阻塞性通气不足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90920" y="5029200"/>
              <a:ext cx="75960" cy="9144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2b8a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734BC8DB-715E-4A4D-A3E3-EBE2F06F511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533520" y="1447920"/>
            <a:ext cx="8610480" cy="10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（一）限制性通气不足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                   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(restrictive hypoventilation)</a:t>
            </a:r>
            <a:r>
              <a:rPr b="0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2971800"/>
            <a:ext cx="8076960" cy="133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概念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ts val="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时肺泡扩张受限引起的肺泡通气不足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D6A55F0B-7F45-4492-B3E3-5556BD42FF9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1295280"/>
            <a:ext cx="6248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限制性通气不足的常见原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33480" y="1828440"/>
            <a:ext cx="7601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     </a:t>
            </a:r>
            <a:r>
              <a:rPr b="1" lang="zh-CN" sz="1800" spc="-1" strike="noStrike">
                <a:solidFill>
                  <a:srgbClr val="1d528d"/>
                </a:solidFill>
                <a:latin typeface="宋体"/>
                <a:ea typeface="宋体"/>
              </a:rPr>
              <a:t>主要环节                        常见原因</a:t>
            </a:r>
            <a:r>
              <a:rPr b="0" lang="zh-CN" sz="18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呼吸肌活动障碍     中枢或周围神经的器质性病变（脑外伤、脑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炎、多发性肌神经炎等</a:t>
            </a:r>
            <a:r>
              <a:rPr b="1" lang="en-US" sz="2000" spc="-1" strike="noStrike">
                <a:solidFill>
                  <a:srgbClr val="1d528d"/>
                </a:solidFill>
                <a:latin typeface="宋体"/>
                <a:ea typeface="宋体"/>
              </a:rPr>
              <a:t>)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；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呼吸中枢抑制（过量使用镇静药、安眠药、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麻醉药等</a:t>
            </a:r>
            <a:r>
              <a:rPr b="1" lang="en-US" sz="2000" spc="-1" strike="noStrike">
                <a:solidFill>
                  <a:srgbClr val="1d528d"/>
                </a:solidFill>
                <a:latin typeface="宋体"/>
                <a:ea typeface="宋体"/>
              </a:rPr>
              <a:t>)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；                  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呼吸肌本身收缩功能障碍（呼吸肌疲劳、萎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缩、低钾血症等）。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胸廓的顺应性降低   严重的胸廓畸形、胸膜纤维化等。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肺的顺应降低       严重的肺纤维化、肺泡表面活性物质减少、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胸腔积液及气胸等。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2590920"/>
            <a:ext cx="7632720" cy="0"/>
          </a:xfrm>
          <a:prstGeom prst="line">
            <a:avLst/>
          </a:prstGeom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5943600"/>
            <a:ext cx="7740720" cy="0"/>
          </a:xfrm>
          <a:prstGeom prst="line">
            <a:avLst/>
          </a:prstGeom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38080" y="1981080"/>
            <a:ext cx="7635960" cy="0"/>
          </a:xfrm>
          <a:prstGeom prst="line">
            <a:avLst/>
          </a:prstGeom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3048120"/>
            <a:ext cx="842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      </a:t>
            </a:r>
            <a:r>
              <a:rPr b="0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概念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由气道狭窄或阻塞所导致的通气障碍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685440" y="129528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（二）阻塞性通气不足</a:t>
            </a:r>
            <a:br>
              <a:rPr sz="3200"/>
            </a:b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                （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obstructive hypoventilation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218960"/>
            <a:ext cx="3840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中央性气道阻塞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120" y="1990440"/>
            <a:ext cx="241956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胸外部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1981080"/>
            <a:ext cx="236196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  <a:ea typeface="宋体"/>
              </a:rPr>
              <a:t>吸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28560" y="2752560"/>
            <a:ext cx="241956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胸内部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90920" y="2743200"/>
            <a:ext cx="236196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  <a:ea typeface="宋体"/>
              </a:rPr>
              <a:t>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4267080"/>
            <a:ext cx="3809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外周性气道阻塞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14600" y="4952880"/>
            <a:ext cx="255420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  <a:ea typeface="宋体"/>
              </a:rPr>
              <a:t>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8" name="">
            <a:hlinkClick r:id="rId1" action="ppaction://hlinksldjump"/>
          </p:cNvPr>
          <p:cNvSpPr/>
          <p:nvPr/>
        </p:nvSpPr>
        <p:spPr>
          <a:xfrm>
            <a:off x="5334120" y="1600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">
            <a:hlinkClick r:id="rId2" action="ppaction://hlinksldjump"/>
          </p:cNvPr>
          <p:cNvSpPr/>
          <p:nvPr/>
        </p:nvSpPr>
        <p:spPr>
          <a:xfrm>
            <a:off x="5410080" y="25909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0" name="">
            <a:hlinkClick r:id="rId3" action="ppaction://hlinksldjump"/>
          </p:cNvPr>
          <p:cNvSpPr/>
          <p:nvPr/>
        </p:nvSpPr>
        <p:spPr>
          <a:xfrm>
            <a:off x="5562720" y="2743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5562720"/>
            <a:ext cx="75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宋体"/>
              </a:rPr>
              <a:t>病因：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宋体"/>
              </a:rPr>
              <a:t>慢性阻塞性肺疾病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3581280"/>
            <a:ext cx="58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病因：声带麻痹、炎症、水肿、异物等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391520" y="1828800"/>
            <a:ext cx="152280" cy="1676520"/>
          </a:xfrm>
          <a:prstGeom prst="can">
            <a:avLst>
              <a:gd name="adj" fmla="val 25000"/>
            </a:avLst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18225600">
            <a:off x="6914880" y="3657600"/>
            <a:ext cx="609840" cy="759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 rot="3374400">
            <a:off x="7409520" y="3675600"/>
            <a:ext cx="609840" cy="763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943600" y="3429000"/>
            <a:ext cx="2705040" cy="1908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705720" y="2743200"/>
            <a:ext cx="152388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400800" y="2743200"/>
            <a:ext cx="2127240" cy="223848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1371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阻塞性通气不足的常见原因及特点</a:t>
            </a:r>
            <a:r>
              <a:rPr b="0" lang="zh-CN" sz="2800" spc="-1" strike="noStrike">
                <a:solidFill>
                  <a:srgbClr val="003366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d528d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阻塞部位            常见原因              呼吸困难的特点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中央气道阻塞  声带麻痹</a:t>
            </a:r>
            <a:r>
              <a:rPr b="1" lang="en-US" sz="2400" spc="-1" strike="noStrike">
                <a:solidFill>
                  <a:srgbClr val="1d528d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炎症   位于胸外吸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</a:t>
            </a:r>
            <a:r>
              <a:rPr b="1" lang="en-US" sz="2400" spc="-1" strike="noStrike">
                <a:solidFill>
                  <a:srgbClr val="1d528d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水肿</a:t>
            </a:r>
            <a:r>
              <a:rPr b="1" lang="en-US" sz="2400" spc="-1" strike="noStrike">
                <a:solidFill>
                  <a:srgbClr val="1d528d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异物等    位于胸内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外周气道阻塞  慢性阻塞性肺疾患       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3520" y="2133720"/>
            <a:ext cx="8153280" cy="0"/>
          </a:xfrm>
          <a:prstGeom prst="line">
            <a:avLst/>
          </a:prstGeom>
          <a:ln w="284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2819520"/>
            <a:ext cx="8153280" cy="0"/>
          </a:xfrm>
          <a:prstGeom prst="line">
            <a:avLst/>
          </a:prstGeom>
          <a:ln w="1908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257800"/>
            <a:ext cx="8001000" cy="0"/>
          </a:xfrm>
          <a:prstGeom prst="line">
            <a:avLst/>
          </a:prstGeom>
          <a:ln w="284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22860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139840" y="1114560"/>
            <a:ext cx="2127240" cy="22381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971800" y="171360"/>
            <a:ext cx="3808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8225600">
            <a:off x="2555640" y="2006280"/>
            <a:ext cx="609840" cy="1335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 rot="3374400">
            <a:off x="3169080" y="200088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16200000">
            <a:off x="2914560" y="876240"/>
            <a:ext cx="304560" cy="7596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523880" y="380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190440"/>
            <a:ext cx="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438280" y="8380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3505320" y="8380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2362320" y="19810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81280" y="19810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24280" y="1600200"/>
            <a:ext cx="914400" cy="152280"/>
          </a:xfrm>
          <a:custGeom>
            <a:avLst/>
            <a:gdLst>
              <a:gd name="textAreaLeft" fmla="*/ 114120 w 914400"/>
              <a:gd name="textAreaRight" fmla="*/ 800280 w 9144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095880" y="1114560"/>
            <a:ext cx="1676520" cy="208584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77080" y="171360"/>
            <a:ext cx="1522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18225600">
            <a:off x="6410160" y="1990440"/>
            <a:ext cx="609840" cy="1332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 rot="3374400">
            <a:off x="6922080" y="196596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16200000">
            <a:off x="6743880" y="876240"/>
            <a:ext cx="304560" cy="7632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37160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气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057400" y="4314960"/>
            <a:ext cx="2127240" cy="22381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889360" y="3371760"/>
            <a:ext cx="3808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rot="18225600">
            <a:off x="2473200" y="5206680"/>
            <a:ext cx="609840" cy="1332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rot="3374400">
            <a:off x="3086640" y="520128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16200000">
            <a:off x="2781360" y="4076640"/>
            <a:ext cx="304560" cy="7632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362320" y="411480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3352320" y="411480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2438280" y="5791320"/>
            <a:ext cx="38124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3352680" y="5715000"/>
            <a:ext cx="45720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086280" y="3200040"/>
            <a:ext cx="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972480" y="22860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419720" y="51814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中央气道狭窄：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胸外部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219720" y="35812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22860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139840" y="1114560"/>
            <a:ext cx="2127240" cy="22381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971800" y="171360"/>
            <a:ext cx="3808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rot="18225600">
            <a:off x="2555640" y="2006280"/>
            <a:ext cx="609840" cy="1335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 rot="3374400">
            <a:off x="3169080" y="200088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rot="16200000">
            <a:off x="2952720" y="1561680"/>
            <a:ext cx="228600" cy="22860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23880" y="380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00400" y="19044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38280" y="8380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3505320" y="8380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362320" y="19810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81280" y="19810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724280" y="1600200"/>
            <a:ext cx="914400" cy="152280"/>
          </a:xfrm>
          <a:custGeom>
            <a:avLst/>
            <a:gdLst>
              <a:gd name="textAreaLeft" fmla="*/ 114120 w 914400"/>
              <a:gd name="textAreaRight" fmla="*/ 800280 w 9144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638680" y="1114560"/>
            <a:ext cx="2514600" cy="231444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800760" y="171360"/>
            <a:ext cx="32400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rot="18225600">
            <a:off x="6370200" y="1915920"/>
            <a:ext cx="609840" cy="2286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 rot="3374400">
            <a:off x="6960600" y="1892880"/>
            <a:ext cx="609840" cy="2368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37160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气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057400" y="4314960"/>
            <a:ext cx="2127240" cy="22381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003480" y="3371760"/>
            <a:ext cx="2350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8225600">
            <a:off x="2473200" y="5206680"/>
            <a:ext cx="609840" cy="1332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 rot="3374400">
            <a:off x="3086640" y="520128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362320" y="411480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3352320" y="411480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438280" y="49528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3390480" y="49528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3124080" y="411480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16200000">
            <a:off x="6648480" y="1561680"/>
            <a:ext cx="228600" cy="22860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16200000">
            <a:off x="2895480" y="4800240"/>
            <a:ext cx="228600" cy="22860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972480" y="6858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6286680" y="2057400"/>
            <a:ext cx="38088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334280" y="2057400"/>
            <a:ext cx="38088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8" name="">
            <a:hlinkClick r:id="rId1" action="ppaction://hlinksldjump"/>
          </p:cNvPr>
          <p:cNvSpPr/>
          <p:nvPr/>
        </p:nvSpPr>
        <p:spPr>
          <a:xfrm>
            <a:off x="792468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noFill/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648320" y="51814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中央气道狭窄：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胸内部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067080" y="3733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 flipV="1">
            <a:off x="3390840" y="1866960"/>
            <a:ext cx="0" cy="1752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807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等压点：呼气时，气道内压力与气道外压力相等的位置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09680" y="2590920"/>
            <a:ext cx="2133720" cy="26287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855880" y="2171880"/>
            <a:ext cx="878040" cy="2214360"/>
          </a:xfrm>
          <a:custGeom>
            <a:avLst/>
            <a:gdLst/>
            <a:ahLst/>
            <a:rect l="l" t="t" r="r" b="b"/>
            <a:pathLst>
              <a:path w="553" h="1395">
                <a:moveTo>
                  <a:pt x="144" y="0"/>
                </a:moveTo>
                <a:lnTo>
                  <a:pt x="144" y="240"/>
                </a:lnTo>
                <a:lnTo>
                  <a:pt x="144" y="528"/>
                </a:lnTo>
                <a:lnTo>
                  <a:pt x="144" y="720"/>
                </a:lnTo>
                <a:lnTo>
                  <a:pt x="144" y="864"/>
                </a:lnTo>
                <a:lnTo>
                  <a:pt x="60" y="915"/>
                </a:lnTo>
                <a:lnTo>
                  <a:pt x="25" y="1009"/>
                </a:lnTo>
                <a:lnTo>
                  <a:pt x="0" y="1104"/>
                </a:lnTo>
                <a:lnTo>
                  <a:pt x="0" y="1200"/>
                </a:lnTo>
                <a:lnTo>
                  <a:pt x="25" y="1268"/>
                </a:lnTo>
                <a:lnTo>
                  <a:pt x="131" y="1385"/>
                </a:lnTo>
                <a:lnTo>
                  <a:pt x="240" y="1392"/>
                </a:lnTo>
                <a:lnTo>
                  <a:pt x="365" y="1395"/>
                </a:lnTo>
                <a:lnTo>
                  <a:pt x="471" y="1360"/>
                </a:lnTo>
                <a:lnTo>
                  <a:pt x="542" y="1242"/>
                </a:lnTo>
                <a:lnTo>
                  <a:pt x="553" y="1125"/>
                </a:lnTo>
                <a:lnTo>
                  <a:pt x="542" y="1019"/>
                </a:lnTo>
                <a:lnTo>
                  <a:pt x="471" y="913"/>
                </a:lnTo>
                <a:lnTo>
                  <a:pt x="389" y="842"/>
                </a:lnTo>
                <a:lnTo>
                  <a:pt x="384" y="480"/>
                </a:lnTo>
                <a:lnTo>
                  <a:pt x="389" y="360"/>
                </a:lnTo>
                <a:lnTo>
                  <a:pt x="389" y="278"/>
                </a:lnTo>
                <a:lnTo>
                  <a:pt x="389" y="208"/>
                </a:lnTo>
                <a:lnTo>
                  <a:pt x="384" y="0"/>
                </a:lnTo>
              </a:path>
            </a:pathLst>
          </a:custGeom>
          <a:noFill/>
          <a:ln w="5724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438280" y="32767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286000" y="42051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733920" y="4191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505320" y="32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048120" y="3824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35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086280" y="3195720"/>
            <a:ext cx="4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067200" y="2724120"/>
            <a:ext cx="4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 rot="21325800">
            <a:off x="3063600" y="2109600"/>
            <a:ext cx="15120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rot="274200">
            <a:off x="3354840" y="2129040"/>
            <a:ext cx="15192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990880" y="22478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086280" y="1995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410080" y="2610000"/>
            <a:ext cx="2133720" cy="26287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056280" y="2190600"/>
            <a:ext cx="878040" cy="2457720"/>
          </a:xfrm>
          <a:custGeom>
            <a:avLst/>
            <a:gdLst/>
            <a:ahLst/>
            <a:rect l="l" t="t" r="r" b="b"/>
            <a:pathLst>
              <a:path w="553" h="1548">
                <a:moveTo>
                  <a:pt x="144" y="0"/>
                </a:moveTo>
                <a:lnTo>
                  <a:pt x="144" y="266"/>
                </a:lnTo>
                <a:lnTo>
                  <a:pt x="144" y="586"/>
                </a:lnTo>
                <a:lnTo>
                  <a:pt x="193" y="806"/>
                </a:lnTo>
                <a:lnTo>
                  <a:pt x="144" y="959"/>
                </a:lnTo>
                <a:lnTo>
                  <a:pt x="193" y="1018"/>
                </a:lnTo>
                <a:lnTo>
                  <a:pt x="158" y="1124"/>
                </a:lnTo>
                <a:lnTo>
                  <a:pt x="76" y="1218"/>
                </a:lnTo>
                <a:lnTo>
                  <a:pt x="0" y="1332"/>
                </a:lnTo>
                <a:lnTo>
                  <a:pt x="25" y="1407"/>
                </a:lnTo>
                <a:lnTo>
                  <a:pt x="131" y="1537"/>
                </a:lnTo>
                <a:lnTo>
                  <a:pt x="240" y="1545"/>
                </a:lnTo>
                <a:lnTo>
                  <a:pt x="365" y="1548"/>
                </a:lnTo>
                <a:lnTo>
                  <a:pt x="471" y="1509"/>
                </a:lnTo>
                <a:lnTo>
                  <a:pt x="542" y="1378"/>
                </a:lnTo>
                <a:lnTo>
                  <a:pt x="553" y="1248"/>
                </a:lnTo>
                <a:lnTo>
                  <a:pt x="499" y="1194"/>
                </a:lnTo>
                <a:lnTo>
                  <a:pt x="393" y="1077"/>
                </a:lnTo>
                <a:lnTo>
                  <a:pt x="389" y="934"/>
                </a:lnTo>
                <a:lnTo>
                  <a:pt x="346" y="818"/>
                </a:lnTo>
                <a:lnTo>
                  <a:pt x="384" y="533"/>
                </a:lnTo>
                <a:lnTo>
                  <a:pt x="389" y="399"/>
                </a:lnTo>
                <a:lnTo>
                  <a:pt x="389" y="308"/>
                </a:lnTo>
                <a:lnTo>
                  <a:pt x="389" y="231"/>
                </a:lnTo>
                <a:lnTo>
                  <a:pt x="384" y="0"/>
                </a:lnTo>
              </a:path>
            </a:pathLst>
          </a:custGeom>
          <a:noFill/>
          <a:ln w="5724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734080" y="3181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486400" y="42242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934320" y="4210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705720" y="3219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248520" y="42051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5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286680" y="35193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 rot="21325800">
            <a:off x="6264000" y="2128680"/>
            <a:ext cx="15120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rot="274200">
            <a:off x="6555240" y="2148120"/>
            <a:ext cx="15192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229440" y="274320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343560" y="2209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715000" y="5334120"/>
            <a:ext cx="1600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等压点上移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666880" y="32004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3580920" y="32004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867280" y="35812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6781320" y="35812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6496200" y="312408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209680" y="59436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宋体"/>
              </a:rPr>
              <a:t>外周气道阻塞：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685440" y="1218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宋体"/>
              </a:rPr>
              <a:t>（三）肺泡通气不足时的血气变化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828800" y="1752480"/>
            <a:ext cx="3352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Pa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 PaC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743200" y="1828800"/>
            <a:ext cx="0" cy="380880"/>
          </a:xfrm>
          <a:prstGeom prst="line">
            <a:avLst/>
          </a:prstGeom>
          <a:ln w="57240">
            <a:solidFill>
              <a:srgbClr val="2b8a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4267080" y="1828800"/>
            <a:ext cx="0" cy="380880"/>
          </a:xfrm>
          <a:prstGeom prst="line">
            <a:avLst/>
          </a:prstGeom>
          <a:ln w="57240">
            <a:solidFill>
              <a:srgbClr val="2b8a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91320" y="1752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总通气量减少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828800" y="2286000"/>
            <a:ext cx="6095880" cy="3962520"/>
          </a:xfrm>
          <a:prstGeom prst="rect">
            <a:avLst/>
          </a:prstGeom>
          <a:solidFill>
            <a:srgbClr val="2b8a91"/>
          </a:solidFill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3124080" y="2822400"/>
          <a:ext cx="2590920" cy="2587680"/>
        </p:xfrm>
        <a:graphic>
          <a:graphicData uri="http://schemas.openxmlformats.org/drawingml/2006/table">
            <a:tbl>
              <a:tblPr/>
              <a:tblGrid>
                <a:gridCol w="648000"/>
                <a:gridCol w="647640"/>
                <a:gridCol w="647640"/>
                <a:gridCol w="64764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2" name=""/>
          <p:cNvSpPr/>
          <p:nvPr/>
        </p:nvSpPr>
        <p:spPr>
          <a:xfrm>
            <a:off x="2990880" y="5429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638520" y="5429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286160" y="5429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952880" y="5429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486400" y="5429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790800" y="575316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通气（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/mi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438280" y="52578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.67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438280" y="47433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5.3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457360" y="41911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.0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438280" y="36957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.7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400480" y="3181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3.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381400" y="26859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6.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924200" y="47624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5%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924200" y="4210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50%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847880" y="369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75%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771560" y="3200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0%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600880" y="4343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-7.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600880" y="3886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-7.4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562720" y="3309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-7.6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000160" y="5772240"/>
            <a:ext cx="15242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O</a:t>
            </a:r>
            <a:r>
              <a:rPr b="1" lang="en-US" sz="1800" spc="-1" strike="noStrike" baseline="-25000">
                <a:solidFill>
                  <a:srgbClr val="cc3300"/>
                </a:solidFill>
                <a:latin typeface="Times New Roman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C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kPa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914400" y="297180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66"/>
                </a:solidFill>
                <a:latin typeface="Times New Roman"/>
                <a:ea typeface="宋体"/>
              </a:rPr>
              <a:t>动脉血氧饱和度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210360" y="3429000"/>
            <a:ext cx="53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动脉血</a:t>
            </a:r>
            <a:r>
              <a:rPr b="1" lang="en-US" sz="1800" spc="-1" strike="noStrike">
                <a:solidFill>
                  <a:srgbClr val="ccffff"/>
                </a:solidFill>
                <a:latin typeface="Times New Roman"/>
                <a:ea typeface="宋体"/>
              </a:rPr>
              <a:t>pH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200400" y="2855880"/>
            <a:ext cx="2211480" cy="2173320"/>
          </a:xfrm>
          <a:custGeom>
            <a:avLst/>
            <a:gdLst/>
            <a:ahLst/>
            <a:rect l="l" t="t" r="r" b="b"/>
            <a:pathLst>
              <a:path w="1393" h="1369">
                <a:moveTo>
                  <a:pt x="0" y="1369"/>
                </a:moveTo>
                <a:cubicBezTo>
                  <a:pt x="5" y="1350"/>
                  <a:pt x="18" y="1295"/>
                  <a:pt x="29" y="1257"/>
                </a:cubicBezTo>
                <a:cubicBezTo>
                  <a:pt x="40" y="1219"/>
                  <a:pt x="54" y="1177"/>
                  <a:pt x="65" y="1140"/>
                </a:cubicBezTo>
                <a:cubicBezTo>
                  <a:pt x="76" y="1103"/>
                  <a:pt x="80" y="1074"/>
                  <a:pt x="96" y="1033"/>
                </a:cubicBezTo>
                <a:cubicBezTo>
                  <a:pt x="112" y="992"/>
                  <a:pt x="143" y="932"/>
                  <a:pt x="159" y="893"/>
                </a:cubicBezTo>
                <a:cubicBezTo>
                  <a:pt x="175" y="854"/>
                  <a:pt x="176" y="836"/>
                  <a:pt x="194" y="799"/>
                </a:cubicBezTo>
                <a:cubicBezTo>
                  <a:pt x="212" y="762"/>
                  <a:pt x="240" y="711"/>
                  <a:pt x="264" y="670"/>
                </a:cubicBezTo>
                <a:cubicBezTo>
                  <a:pt x="288" y="629"/>
                  <a:pt x="312" y="585"/>
                  <a:pt x="336" y="553"/>
                </a:cubicBezTo>
                <a:cubicBezTo>
                  <a:pt x="360" y="521"/>
                  <a:pt x="382" y="505"/>
                  <a:pt x="406" y="481"/>
                </a:cubicBezTo>
                <a:cubicBezTo>
                  <a:pt x="430" y="457"/>
                  <a:pt x="453" y="434"/>
                  <a:pt x="480" y="409"/>
                </a:cubicBezTo>
                <a:cubicBezTo>
                  <a:pt x="507" y="384"/>
                  <a:pt x="539" y="354"/>
                  <a:pt x="570" y="329"/>
                </a:cubicBezTo>
                <a:cubicBezTo>
                  <a:pt x="601" y="304"/>
                  <a:pt x="639" y="277"/>
                  <a:pt x="664" y="258"/>
                </a:cubicBezTo>
                <a:cubicBezTo>
                  <a:pt x="689" y="239"/>
                  <a:pt x="687" y="240"/>
                  <a:pt x="720" y="217"/>
                </a:cubicBezTo>
                <a:cubicBezTo>
                  <a:pt x="753" y="194"/>
                  <a:pt x="826" y="141"/>
                  <a:pt x="864" y="121"/>
                </a:cubicBezTo>
                <a:cubicBezTo>
                  <a:pt x="902" y="101"/>
                  <a:pt x="922" y="102"/>
                  <a:pt x="946" y="94"/>
                </a:cubicBezTo>
                <a:cubicBezTo>
                  <a:pt x="970" y="86"/>
                  <a:pt x="982" y="85"/>
                  <a:pt x="1008" y="73"/>
                </a:cubicBezTo>
                <a:cubicBezTo>
                  <a:pt x="1034" y="61"/>
                  <a:pt x="1072" y="33"/>
                  <a:pt x="1104" y="25"/>
                </a:cubicBezTo>
                <a:cubicBezTo>
                  <a:pt x="1136" y="17"/>
                  <a:pt x="1152" y="29"/>
                  <a:pt x="1200" y="25"/>
                </a:cubicBezTo>
                <a:cubicBezTo>
                  <a:pt x="1248" y="21"/>
                  <a:pt x="1353" y="5"/>
                  <a:pt x="1393" y="0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154320" y="3359160"/>
            <a:ext cx="2484360" cy="1974960"/>
          </a:xfrm>
          <a:custGeom>
            <a:avLst/>
            <a:gdLst/>
            <a:ahLst/>
            <a:rect l="l" t="t" r="r" b="b"/>
            <a:pathLst>
              <a:path w="1565" h="1244">
                <a:moveTo>
                  <a:pt x="0" y="0"/>
                </a:moveTo>
                <a:cubicBezTo>
                  <a:pt x="6" y="19"/>
                  <a:pt x="17" y="78"/>
                  <a:pt x="23" y="117"/>
                </a:cubicBezTo>
                <a:cubicBezTo>
                  <a:pt x="29" y="156"/>
                  <a:pt x="27" y="200"/>
                  <a:pt x="35" y="235"/>
                </a:cubicBezTo>
                <a:cubicBezTo>
                  <a:pt x="43" y="270"/>
                  <a:pt x="60" y="294"/>
                  <a:pt x="70" y="329"/>
                </a:cubicBezTo>
                <a:cubicBezTo>
                  <a:pt x="80" y="364"/>
                  <a:pt x="82" y="414"/>
                  <a:pt x="94" y="447"/>
                </a:cubicBezTo>
                <a:cubicBezTo>
                  <a:pt x="106" y="480"/>
                  <a:pt x="120" y="492"/>
                  <a:pt x="141" y="529"/>
                </a:cubicBezTo>
                <a:cubicBezTo>
                  <a:pt x="162" y="566"/>
                  <a:pt x="192" y="621"/>
                  <a:pt x="221" y="668"/>
                </a:cubicBezTo>
                <a:cubicBezTo>
                  <a:pt x="250" y="715"/>
                  <a:pt x="279" y="772"/>
                  <a:pt x="317" y="812"/>
                </a:cubicBezTo>
                <a:cubicBezTo>
                  <a:pt x="355" y="852"/>
                  <a:pt x="389" y="872"/>
                  <a:pt x="446" y="905"/>
                </a:cubicBezTo>
                <a:cubicBezTo>
                  <a:pt x="503" y="938"/>
                  <a:pt x="583" y="978"/>
                  <a:pt x="658" y="1011"/>
                </a:cubicBezTo>
                <a:cubicBezTo>
                  <a:pt x="733" y="1044"/>
                  <a:pt x="821" y="1075"/>
                  <a:pt x="893" y="1100"/>
                </a:cubicBezTo>
                <a:cubicBezTo>
                  <a:pt x="965" y="1125"/>
                  <a:pt x="1037" y="1148"/>
                  <a:pt x="1093" y="1164"/>
                </a:cubicBezTo>
                <a:cubicBezTo>
                  <a:pt x="1149" y="1180"/>
                  <a:pt x="1168" y="1184"/>
                  <a:pt x="1229" y="1196"/>
                </a:cubicBezTo>
                <a:cubicBezTo>
                  <a:pt x="1290" y="1208"/>
                  <a:pt x="1401" y="1226"/>
                  <a:pt x="1457" y="1234"/>
                </a:cubicBezTo>
                <a:cubicBezTo>
                  <a:pt x="1513" y="1242"/>
                  <a:pt x="1543" y="1242"/>
                  <a:pt x="1565" y="1244"/>
                </a:cubicBezTo>
              </a:path>
            </a:pathLst>
          </a:custGeom>
          <a:noFill/>
          <a:ln w="572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171960" y="3376440"/>
            <a:ext cx="2333520" cy="1289160"/>
          </a:xfrm>
          <a:custGeom>
            <a:avLst/>
            <a:gdLst/>
            <a:ahLst/>
            <a:rect l="l" t="t" r="r" b="b"/>
            <a:pathLst>
              <a:path w="1470" h="812">
                <a:moveTo>
                  <a:pt x="0" y="812"/>
                </a:moveTo>
                <a:cubicBezTo>
                  <a:pt x="4" y="777"/>
                  <a:pt x="6" y="663"/>
                  <a:pt x="12" y="600"/>
                </a:cubicBezTo>
                <a:cubicBezTo>
                  <a:pt x="18" y="537"/>
                  <a:pt x="30" y="485"/>
                  <a:pt x="36" y="436"/>
                </a:cubicBezTo>
                <a:cubicBezTo>
                  <a:pt x="42" y="387"/>
                  <a:pt x="42" y="341"/>
                  <a:pt x="47" y="306"/>
                </a:cubicBezTo>
                <a:cubicBezTo>
                  <a:pt x="52" y="271"/>
                  <a:pt x="48" y="262"/>
                  <a:pt x="66" y="225"/>
                </a:cubicBezTo>
                <a:cubicBezTo>
                  <a:pt x="84" y="188"/>
                  <a:pt x="95" y="118"/>
                  <a:pt x="153" y="83"/>
                </a:cubicBezTo>
                <a:cubicBezTo>
                  <a:pt x="211" y="48"/>
                  <a:pt x="306" y="24"/>
                  <a:pt x="412" y="12"/>
                </a:cubicBezTo>
                <a:cubicBezTo>
                  <a:pt x="518" y="0"/>
                  <a:pt x="686" y="12"/>
                  <a:pt x="788" y="12"/>
                </a:cubicBezTo>
                <a:cubicBezTo>
                  <a:pt x="890" y="12"/>
                  <a:pt x="951" y="12"/>
                  <a:pt x="1023" y="12"/>
                </a:cubicBezTo>
                <a:cubicBezTo>
                  <a:pt x="1095" y="12"/>
                  <a:pt x="1149" y="10"/>
                  <a:pt x="1223" y="12"/>
                </a:cubicBezTo>
                <a:cubicBezTo>
                  <a:pt x="1297" y="14"/>
                  <a:pt x="1419" y="21"/>
                  <a:pt x="1470" y="24"/>
                </a:cubicBezTo>
              </a:path>
            </a:pathLst>
          </a:custGeom>
          <a:noFill/>
          <a:ln w="57240">
            <a:solidFill>
              <a:srgbClr val="ff3399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135240" y="3505320"/>
            <a:ext cx="2579760" cy="1160280"/>
          </a:xfrm>
          <a:custGeom>
            <a:avLst/>
            <a:gdLst/>
            <a:ahLst/>
            <a:rect l="l" t="t" r="r" b="b"/>
            <a:pathLst>
              <a:path w="1625" h="731">
                <a:moveTo>
                  <a:pt x="0" y="731"/>
                </a:moveTo>
                <a:cubicBezTo>
                  <a:pt x="26" y="713"/>
                  <a:pt x="94" y="662"/>
                  <a:pt x="153" y="625"/>
                </a:cubicBezTo>
                <a:cubicBezTo>
                  <a:pt x="212" y="588"/>
                  <a:pt x="290" y="546"/>
                  <a:pt x="353" y="507"/>
                </a:cubicBezTo>
                <a:cubicBezTo>
                  <a:pt x="416" y="468"/>
                  <a:pt x="486" y="417"/>
                  <a:pt x="529" y="390"/>
                </a:cubicBezTo>
                <a:cubicBezTo>
                  <a:pt x="572" y="363"/>
                  <a:pt x="564" y="365"/>
                  <a:pt x="611" y="343"/>
                </a:cubicBezTo>
                <a:cubicBezTo>
                  <a:pt x="658" y="321"/>
                  <a:pt x="725" y="298"/>
                  <a:pt x="811" y="261"/>
                </a:cubicBezTo>
                <a:cubicBezTo>
                  <a:pt x="897" y="224"/>
                  <a:pt x="1102" y="134"/>
                  <a:pt x="1128" y="120"/>
                </a:cubicBezTo>
                <a:cubicBezTo>
                  <a:pt x="1154" y="106"/>
                  <a:pt x="942" y="184"/>
                  <a:pt x="964" y="178"/>
                </a:cubicBezTo>
                <a:cubicBezTo>
                  <a:pt x="986" y="172"/>
                  <a:pt x="1184" y="107"/>
                  <a:pt x="1258" y="84"/>
                </a:cubicBezTo>
                <a:cubicBezTo>
                  <a:pt x="1332" y="61"/>
                  <a:pt x="1349" y="51"/>
                  <a:pt x="1410" y="37"/>
                </a:cubicBezTo>
                <a:cubicBezTo>
                  <a:pt x="1471" y="23"/>
                  <a:pt x="1580" y="8"/>
                  <a:pt x="1625" y="0"/>
                </a:cubicBezTo>
              </a:path>
            </a:pathLst>
          </a:custGeom>
          <a:noFill/>
          <a:ln w="57240">
            <a:solidFill>
              <a:srgbClr val="3366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4114800" y="2876040"/>
            <a:ext cx="0" cy="25146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90720" y="990720"/>
            <a:ext cx="7010280" cy="1295280"/>
          </a:xfrm>
          <a:prstGeom prst="wedgeEllipseCallout">
            <a:avLst>
              <a:gd name="adj1" fmla="val -5708"/>
              <a:gd name="adj2" fmla="val 41787"/>
            </a:avLst>
          </a:prstGeom>
          <a:solidFill>
            <a:srgbClr val="2b8a91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宋体"/>
              </a:rPr>
              <a:t>呼吸包括三个基本过程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60880" y="3505320"/>
            <a:ext cx="405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2514600"/>
            <a:ext cx="7924680" cy="36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①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外呼吸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：指肺通气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(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肺与外界的气体交换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)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    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和肺换气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(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肺泡与血液之间的气体交换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)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②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气体在血液中的运输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③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内呼吸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：指血液与组织细胞间的气体交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   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换，以及细胞内生物氧化的过程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160" y="1493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二、肺换气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600200" y="2590920"/>
            <a:ext cx="661032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弥散障碍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肺泡通气与血流比例失调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解剖分流增加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20680" y="1218960"/>
            <a:ext cx="4137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Verdana"/>
                <a:ea typeface="宋体"/>
              </a:rPr>
              <a:t>（一）弥散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371240" y="2971440"/>
            <a:ext cx="6172200" cy="59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宋体"/>
              </a:rPr>
              <a:t>影响气体弥散的因素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447920" y="3657600"/>
            <a:ext cx="6400800" cy="246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毛细血管两侧气体分压差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膜的面积与厚度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气体的弥散能力（分子量和溶解度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气体与血液接触时间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914400" y="1828800"/>
            <a:ext cx="7543800" cy="63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肺泡气与肺泡毛细血管血液之间进行气体交换的物理过程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8F9942E-9DDB-4F82-ADA2-7A83307A6A2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143000" y="2590920"/>
            <a:ext cx="7010280" cy="220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膜面积减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实变、肺不张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膜厚度增加：肺水肿、肺透明膜形成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液与气体接触时间缩短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990720" y="1600200"/>
            <a:ext cx="6912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1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弥散障碍的常见原因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E80B472A-7EFC-4AAC-9904-3AEBC34E633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1325160" y="1295280"/>
            <a:ext cx="713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2.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弥散障碍时的血气变化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447920" y="2438280"/>
            <a:ext cx="6095880" cy="3962520"/>
          </a:xfrm>
          <a:prstGeom prst="rect">
            <a:avLst/>
          </a:prstGeom>
          <a:solidFill>
            <a:srgbClr val="2b8a91"/>
          </a:solidFill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3124080" y="2743200"/>
          <a:ext cx="2590920" cy="2663640"/>
        </p:xfrm>
        <a:graphic>
          <a:graphicData uri="http://schemas.openxmlformats.org/drawingml/2006/table">
            <a:tbl>
              <a:tblPr/>
              <a:tblGrid>
                <a:gridCol w="648000"/>
                <a:gridCol w="647640"/>
                <a:gridCol w="647640"/>
                <a:gridCol w="64764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0" name=""/>
          <p:cNvSpPr/>
          <p:nvPr/>
        </p:nvSpPr>
        <p:spPr>
          <a:xfrm>
            <a:off x="3505320" y="542916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886200" y="54291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.25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572000" y="5424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.5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181480" y="54291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.7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514600" y="595800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血液通过肺泡毛细血管时的血气变化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438280" y="47433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.67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457360" y="42102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5.3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57360" y="36957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.0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38280" y="316224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.7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40048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3.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1371600" y="1905120"/>
            <a:ext cx="5181480" cy="510120"/>
            <a:chOff x="1371600" y="1905120"/>
            <a:chExt cx="5181480" cy="510120"/>
          </a:xfrm>
        </p:grpSpPr>
        <p:sp>
          <p:nvSpPr>
            <p:cNvPr id="381" name=""/>
            <p:cNvSpPr/>
            <p:nvPr/>
          </p:nvSpPr>
          <p:spPr>
            <a:xfrm>
              <a:off x="1371600" y="1905120"/>
              <a:ext cx="5181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PaO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       PaCO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  <a:ea typeface="宋体"/>
                </a:rPr>
                <a:t>2         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/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86000" y="1981440"/>
              <a:ext cx="0" cy="380880"/>
            </a:xfrm>
            <a:prstGeom prst="line">
              <a:avLst/>
            </a:prstGeom>
            <a:ln w="57240">
              <a:solidFill>
                <a:srgbClr val="2b8a9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657600" y="2133720"/>
              <a:ext cx="380880" cy="0"/>
            </a:xfrm>
            <a:prstGeom prst="line">
              <a:avLst/>
            </a:prstGeom>
            <a:ln w="57240">
              <a:solidFill>
                <a:srgbClr val="2b8a9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343400" y="1981440"/>
              <a:ext cx="0" cy="380880"/>
            </a:xfrm>
            <a:prstGeom prst="line">
              <a:avLst/>
            </a:prstGeom>
            <a:ln w="57240">
              <a:solidFill>
                <a:srgbClr val="2b8a9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3657600" y="5334120"/>
            <a:ext cx="0" cy="7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267080" y="5334120"/>
            <a:ext cx="0" cy="7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876920" y="5334120"/>
            <a:ext cx="0" cy="7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410080" y="5334120"/>
            <a:ext cx="0" cy="7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124080" y="495288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124080" y="441972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124080" y="388620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124080" y="335268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124080" y="281952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828800" y="25909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PO</a:t>
            </a:r>
            <a:r>
              <a:rPr b="1" lang="en-US" sz="1800" spc="-1" strike="noStrike" baseline="-25000">
                <a:solidFill>
                  <a:srgbClr val="cc33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206520" y="2590920"/>
            <a:ext cx="730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imes New Roman"/>
                <a:ea typeface="宋体"/>
              </a:rPr>
              <a:t>PCO</a:t>
            </a:r>
            <a:r>
              <a:rPr b="1" lang="en-US" sz="1800" spc="-1" strike="noStrike" baseline="-25000">
                <a:solidFill>
                  <a:srgbClr val="0099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657600" y="2971800"/>
            <a:ext cx="0" cy="236232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054240" y="2971800"/>
            <a:ext cx="844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v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352680" y="33526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125520" y="33670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6.1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053880" y="4038480"/>
            <a:ext cx="68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v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429000" y="4419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695760" y="2806560"/>
            <a:ext cx="1790640" cy="1597320"/>
          </a:xfrm>
          <a:custGeom>
            <a:avLst/>
            <a:gdLst/>
            <a:ahLst/>
            <a:rect l="l" t="t" r="r" b="b"/>
            <a:pathLst>
              <a:path w="1128" h="1006">
                <a:moveTo>
                  <a:pt x="0" y="1006"/>
                </a:moveTo>
                <a:cubicBezTo>
                  <a:pt x="4" y="973"/>
                  <a:pt x="17" y="857"/>
                  <a:pt x="23" y="806"/>
                </a:cubicBezTo>
                <a:cubicBezTo>
                  <a:pt x="29" y="755"/>
                  <a:pt x="27" y="736"/>
                  <a:pt x="35" y="701"/>
                </a:cubicBezTo>
                <a:cubicBezTo>
                  <a:pt x="43" y="666"/>
                  <a:pt x="60" y="628"/>
                  <a:pt x="70" y="595"/>
                </a:cubicBezTo>
                <a:cubicBezTo>
                  <a:pt x="80" y="562"/>
                  <a:pt x="80" y="538"/>
                  <a:pt x="94" y="501"/>
                </a:cubicBezTo>
                <a:cubicBezTo>
                  <a:pt x="108" y="464"/>
                  <a:pt x="135" y="410"/>
                  <a:pt x="152" y="371"/>
                </a:cubicBezTo>
                <a:cubicBezTo>
                  <a:pt x="169" y="332"/>
                  <a:pt x="181" y="299"/>
                  <a:pt x="199" y="266"/>
                </a:cubicBezTo>
                <a:cubicBezTo>
                  <a:pt x="217" y="233"/>
                  <a:pt x="239" y="199"/>
                  <a:pt x="258" y="172"/>
                </a:cubicBezTo>
                <a:cubicBezTo>
                  <a:pt x="277" y="145"/>
                  <a:pt x="287" y="123"/>
                  <a:pt x="312" y="104"/>
                </a:cubicBezTo>
                <a:cubicBezTo>
                  <a:pt x="337" y="85"/>
                  <a:pt x="376" y="72"/>
                  <a:pt x="408" y="56"/>
                </a:cubicBezTo>
                <a:cubicBezTo>
                  <a:pt x="440" y="40"/>
                  <a:pt x="384" y="16"/>
                  <a:pt x="504" y="8"/>
                </a:cubicBezTo>
                <a:cubicBezTo>
                  <a:pt x="624" y="0"/>
                  <a:pt x="1024" y="8"/>
                  <a:pt x="1128" y="8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657600" y="3352680"/>
            <a:ext cx="1828800" cy="1149480"/>
          </a:xfrm>
          <a:custGeom>
            <a:avLst/>
            <a:gdLst/>
            <a:ahLst/>
            <a:rect l="l" t="t" r="r" b="b"/>
            <a:pathLst>
              <a:path w="1152" h="724">
                <a:moveTo>
                  <a:pt x="0" y="0"/>
                </a:moveTo>
                <a:cubicBezTo>
                  <a:pt x="4" y="26"/>
                  <a:pt x="16" y="109"/>
                  <a:pt x="24" y="157"/>
                </a:cubicBezTo>
                <a:cubicBezTo>
                  <a:pt x="32" y="205"/>
                  <a:pt x="36" y="242"/>
                  <a:pt x="48" y="288"/>
                </a:cubicBezTo>
                <a:cubicBezTo>
                  <a:pt x="60" y="334"/>
                  <a:pt x="80" y="392"/>
                  <a:pt x="96" y="432"/>
                </a:cubicBezTo>
                <a:cubicBezTo>
                  <a:pt x="112" y="472"/>
                  <a:pt x="123" y="498"/>
                  <a:pt x="144" y="528"/>
                </a:cubicBezTo>
                <a:cubicBezTo>
                  <a:pt x="165" y="558"/>
                  <a:pt x="194" y="587"/>
                  <a:pt x="223" y="615"/>
                </a:cubicBezTo>
                <a:cubicBezTo>
                  <a:pt x="252" y="643"/>
                  <a:pt x="274" y="680"/>
                  <a:pt x="317" y="697"/>
                </a:cubicBezTo>
                <a:cubicBezTo>
                  <a:pt x="360" y="714"/>
                  <a:pt x="341" y="716"/>
                  <a:pt x="480" y="720"/>
                </a:cubicBezTo>
                <a:cubicBezTo>
                  <a:pt x="619" y="724"/>
                  <a:pt x="884" y="720"/>
                  <a:pt x="1152" y="720"/>
                </a:cubicBezTo>
              </a:path>
            </a:pathLst>
          </a:custGeom>
          <a:noFill/>
          <a:ln w="572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657600" y="2819520"/>
            <a:ext cx="1828800" cy="1600200"/>
          </a:xfrm>
          <a:custGeom>
            <a:avLst/>
            <a:gdLst/>
            <a:ahLst/>
            <a:rect l="l" t="t" r="r" b="b"/>
            <a:pathLst>
              <a:path w="1152" h="1008">
                <a:moveTo>
                  <a:pt x="0" y="1008"/>
                </a:moveTo>
                <a:cubicBezTo>
                  <a:pt x="44" y="968"/>
                  <a:pt x="88" y="928"/>
                  <a:pt x="144" y="864"/>
                </a:cubicBezTo>
                <a:cubicBezTo>
                  <a:pt x="200" y="800"/>
                  <a:pt x="276" y="690"/>
                  <a:pt x="336" y="624"/>
                </a:cubicBezTo>
                <a:cubicBezTo>
                  <a:pt x="396" y="558"/>
                  <a:pt x="457" y="517"/>
                  <a:pt x="505" y="469"/>
                </a:cubicBezTo>
                <a:cubicBezTo>
                  <a:pt x="553" y="421"/>
                  <a:pt x="573" y="379"/>
                  <a:pt x="624" y="336"/>
                </a:cubicBezTo>
                <a:cubicBezTo>
                  <a:pt x="675" y="293"/>
                  <a:pt x="752" y="249"/>
                  <a:pt x="811" y="211"/>
                </a:cubicBezTo>
                <a:cubicBezTo>
                  <a:pt x="870" y="173"/>
                  <a:pt x="939" y="128"/>
                  <a:pt x="976" y="105"/>
                </a:cubicBezTo>
                <a:cubicBezTo>
                  <a:pt x="1013" y="82"/>
                  <a:pt x="1015" y="80"/>
                  <a:pt x="1034" y="70"/>
                </a:cubicBezTo>
                <a:cubicBezTo>
                  <a:pt x="1053" y="60"/>
                  <a:pt x="1073" y="58"/>
                  <a:pt x="1093" y="46"/>
                </a:cubicBezTo>
                <a:cubicBezTo>
                  <a:pt x="1113" y="34"/>
                  <a:pt x="1140" y="10"/>
                  <a:pt x="1152" y="0"/>
                </a:cubicBezTo>
              </a:path>
            </a:pathLst>
          </a:custGeom>
          <a:noFill/>
          <a:ln w="57240">
            <a:solidFill>
              <a:srgbClr val="cc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657600" y="3352680"/>
            <a:ext cx="1828800" cy="1155960"/>
          </a:xfrm>
          <a:custGeom>
            <a:avLst/>
            <a:gdLst/>
            <a:ahLst/>
            <a:rect l="l" t="t" r="r" b="b"/>
            <a:pathLst>
              <a:path w="1152" h="728">
                <a:moveTo>
                  <a:pt x="0" y="0"/>
                </a:moveTo>
                <a:cubicBezTo>
                  <a:pt x="16" y="32"/>
                  <a:pt x="32" y="64"/>
                  <a:pt x="48" y="96"/>
                </a:cubicBezTo>
                <a:cubicBezTo>
                  <a:pt x="64" y="128"/>
                  <a:pt x="80" y="160"/>
                  <a:pt x="96" y="192"/>
                </a:cubicBezTo>
                <a:cubicBezTo>
                  <a:pt x="112" y="224"/>
                  <a:pt x="120" y="248"/>
                  <a:pt x="144" y="288"/>
                </a:cubicBezTo>
                <a:cubicBezTo>
                  <a:pt x="168" y="328"/>
                  <a:pt x="208" y="392"/>
                  <a:pt x="240" y="432"/>
                </a:cubicBezTo>
                <a:cubicBezTo>
                  <a:pt x="272" y="472"/>
                  <a:pt x="304" y="496"/>
                  <a:pt x="336" y="528"/>
                </a:cubicBezTo>
                <a:cubicBezTo>
                  <a:pt x="368" y="560"/>
                  <a:pt x="400" y="600"/>
                  <a:pt x="432" y="624"/>
                </a:cubicBezTo>
                <a:cubicBezTo>
                  <a:pt x="464" y="648"/>
                  <a:pt x="488" y="656"/>
                  <a:pt x="528" y="672"/>
                </a:cubicBezTo>
                <a:cubicBezTo>
                  <a:pt x="568" y="688"/>
                  <a:pt x="600" y="712"/>
                  <a:pt x="672" y="720"/>
                </a:cubicBezTo>
                <a:cubicBezTo>
                  <a:pt x="744" y="728"/>
                  <a:pt x="880" y="720"/>
                  <a:pt x="960" y="720"/>
                </a:cubicBezTo>
                <a:cubicBezTo>
                  <a:pt x="1040" y="720"/>
                  <a:pt x="1096" y="720"/>
                  <a:pt x="1152" y="720"/>
                </a:cubicBezTo>
              </a:path>
            </a:pathLst>
          </a:custGeom>
          <a:noFill/>
          <a:ln w="57240">
            <a:solidFill>
              <a:srgbClr val="0099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095880" y="28954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419880" y="27050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正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095880" y="34290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343560" y="325764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肺泡膜增厚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648320" y="190512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弥散速度＝弥散系数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分压差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＞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12189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Verdana"/>
                <a:ea typeface="宋体"/>
              </a:rPr>
              <a:t>（二）肺泡通气与血流比例失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"/>
          <p:cNvSpPr/>
          <p:nvPr/>
        </p:nvSpPr>
        <p:spPr>
          <a:xfrm>
            <a:off x="3733920" y="2057400"/>
            <a:ext cx="46479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血液流经肺泡时能否获得足够的氧和充分排出二氧化碳，取决于肺泡通气量与血流量的比例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1143000" y="2808720"/>
            <a:ext cx="2288880" cy="3363480"/>
            <a:chOff x="1143000" y="2808720"/>
            <a:chExt cx="2288880" cy="3363480"/>
          </a:xfrm>
        </p:grpSpPr>
        <p:sp>
          <p:nvSpPr>
            <p:cNvPr id="414" name=""/>
            <p:cNvSpPr/>
            <p:nvPr/>
          </p:nvSpPr>
          <p:spPr>
            <a:xfrm flipH="1" rot="5205000">
              <a:off x="2476080" y="3311640"/>
              <a:ext cx="1293840" cy="30276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143000" y="2968560"/>
              <a:ext cx="1798560" cy="3203640"/>
            </a:xfrm>
            <a:custGeom>
              <a:avLst/>
              <a:gdLst/>
              <a:ahLst/>
              <a:rect l="l" t="t" r="r" b="b"/>
              <a:pathLst>
                <a:path w="762" h="1314">
                  <a:moveTo>
                    <a:pt x="474" y="98"/>
                  </a:moveTo>
                  <a:cubicBezTo>
                    <a:pt x="414" y="124"/>
                    <a:pt x="349" y="162"/>
                    <a:pt x="306" y="205"/>
                  </a:cubicBezTo>
                  <a:cubicBezTo>
                    <a:pt x="263" y="248"/>
                    <a:pt x="261" y="269"/>
                    <a:pt x="216" y="359"/>
                  </a:cubicBezTo>
                  <a:cubicBezTo>
                    <a:pt x="171" y="449"/>
                    <a:pt x="70" y="634"/>
                    <a:pt x="35" y="745"/>
                  </a:cubicBezTo>
                  <a:cubicBezTo>
                    <a:pt x="0" y="856"/>
                    <a:pt x="4" y="937"/>
                    <a:pt x="4" y="1027"/>
                  </a:cubicBezTo>
                  <a:cubicBezTo>
                    <a:pt x="4" y="1117"/>
                    <a:pt x="0" y="1254"/>
                    <a:pt x="35" y="1284"/>
                  </a:cubicBezTo>
                  <a:cubicBezTo>
                    <a:pt x="70" y="1314"/>
                    <a:pt x="156" y="1233"/>
                    <a:pt x="216" y="1207"/>
                  </a:cubicBezTo>
                  <a:cubicBezTo>
                    <a:pt x="276" y="1182"/>
                    <a:pt x="321" y="1143"/>
                    <a:pt x="397" y="1130"/>
                  </a:cubicBezTo>
                  <a:cubicBezTo>
                    <a:pt x="472" y="1117"/>
                    <a:pt x="622" y="1182"/>
                    <a:pt x="668" y="1130"/>
                  </a:cubicBezTo>
                  <a:cubicBezTo>
                    <a:pt x="713" y="1079"/>
                    <a:pt x="659" y="898"/>
                    <a:pt x="668" y="822"/>
                  </a:cubicBezTo>
                  <a:cubicBezTo>
                    <a:pt x="677" y="746"/>
                    <a:pt x="710" y="724"/>
                    <a:pt x="721" y="674"/>
                  </a:cubicBezTo>
                  <a:cubicBezTo>
                    <a:pt x="732" y="624"/>
                    <a:pt x="727" y="573"/>
                    <a:pt x="733" y="521"/>
                  </a:cubicBezTo>
                  <a:cubicBezTo>
                    <a:pt x="739" y="469"/>
                    <a:pt x="762" y="414"/>
                    <a:pt x="758" y="359"/>
                  </a:cubicBezTo>
                  <a:cubicBezTo>
                    <a:pt x="754" y="304"/>
                    <a:pt x="732" y="249"/>
                    <a:pt x="710" y="192"/>
                  </a:cubicBezTo>
                  <a:cubicBezTo>
                    <a:pt x="688" y="135"/>
                    <a:pt x="666" y="32"/>
                    <a:pt x="627" y="16"/>
                  </a:cubicBezTo>
                  <a:cubicBezTo>
                    <a:pt x="588" y="0"/>
                    <a:pt x="506" y="81"/>
                    <a:pt x="474" y="98"/>
                  </a:cubicBezTo>
                  <a:close/>
                </a:path>
              </a:pathLst>
            </a:custGeom>
            <a:solidFill>
              <a:srgbClr val="ffcc99"/>
            </a:solidFill>
            <a:ln w="25560">
              <a:solidFill>
                <a:srgbClr val="2b8a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5400000">
              <a:off x="2628360" y="3387600"/>
              <a:ext cx="1371600" cy="22860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 rot="7387800">
              <a:off x="1462680" y="4840560"/>
              <a:ext cx="1219320" cy="32544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 rot="2024400">
              <a:off x="2169720" y="3662280"/>
              <a:ext cx="927000" cy="10152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 rot="20716200">
              <a:off x="1693080" y="4111200"/>
              <a:ext cx="1339920" cy="15408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 rot="4324800">
              <a:off x="1999080" y="4055760"/>
              <a:ext cx="646200" cy="7452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 rot="20569200">
              <a:off x="1695600" y="4493880"/>
              <a:ext cx="645840" cy="15084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rot="6964800">
              <a:off x="1923120" y="4641480"/>
              <a:ext cx="1600200" cy="19656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rot="20779200">
              <a:off x="2361960" y="4263840"/>
              <a:ext cx="1066680" cy="15228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3733920" y="3809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/ Q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＞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8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867280" y="3733920"/>
            <a:ext cx="1752840" cy="53316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死腔样通气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733920" y="45720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(4) / Q(5)≈0.8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29400" y="4572000"/>
            <a:ext cx="990720" cy="4572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正常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495680" y="39625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505320" y="5410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  / Q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8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715000" y="5334120"/>
            <a:ext cx="1981080" cy="60948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功能性分流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114800" y="55627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51E26842-CF31-4D1D-9A8B-8626975BA65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837720" y="1218960"/>
            <a:ext cx="7232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肺通气与血流比例失调的类型和原因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143000" y="178272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．部分肺泡通气不足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功能性分流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38080" y="2509920"/>
            <a:ext cx="7696440" cy="302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c00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病变部分的肺泡通气量明显减少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,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而血流未相应减少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甚至增加，使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V/Q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显著降低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,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以致流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经这部分肺泡的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静脉血未经充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动脉化便掺入动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脉血内的情况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6172200" y="3429000"/>
            <a:ext cx="2362320" cy="2514600"/>
            <a:chOff x="6172200" y="3429000"/>
            <a:chExt cx="2362320" cy="2514600"/>
          </a:xfrm>
        </p:grpSpPr>
        <p:sp>
          <p:nvSpPr>
            <p:cNvPr id="436" name=""/>
            <p:cNvSpPr/>
            <p:nvPr/>
          </p:nvSpPr>
          <p:spPr>
            <a:xfrm flipH="1" rot="10173000">
              <a:off x="7438320" y="4677120"/>
              <a:ext cx="581040" cy="8521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993366"/>
            </a:solidFill>
            <a:ln w="5724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20785200">
              <a:off x="7467480" y="4876920"/>
              <a:ext cx="533520" cy="457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 rot="21087000">
              <a:off x="7722720" y="4400640"/>
              <a:ext cx="74880" cy="533520"/>
            </a:xfrm>
            <a:custGeom>
              <a:avLst/>
              <a:gdLst>
                <a:gd name="textAreaLeft" fmla="*/ 3600 w 74880"/>
                <a:gd name="textAreaRight" fmla="*/ 71280 w 74880"/>
                <a:gd name="textAreaTop" fmla="*/ 3600 h 533520"/>
                <a:gd name="textAreaBottom" fmla="*/ 529920 h 533520"/>
              </a:gdLst>
              <a:ahLst/>
              <a:rect l="textAreaLeft" t="textAreaTop" r="textAreaRight" b="textAreaBottom"/>
              <a:pathLst>
                <a:path w="21600" h="153267">
                  <a:moveTo>
                    <a:pt x="3600" y="0"/>
                  </a:moveTo>
                  <a:arcTo wR="3600" hR="3600" stAng="16200000" swAng="-5400000"/>
                  <a:lnTo>
                    <a:pt x="0" y="149667"/>
                  </a:lnTo>
                  <a:arcTo wR="3600" hR="3600" stAng="10800000" swAng="-5400000"/>
                  <a:lnTo>
                    <a:pt x="18000" y="1532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rot="12664200">
              <a:off x="6705000" y="4876560"/>
              <a:ext cx="583920" cy="6588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rot="1741800">
              <a:off x="6743520" y="4942080"/>
              <a:ext cx="533160" cy="457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1897200">
              <a:off x="7410240" y="4336920"/>
              <a:ext cx="95040" cy="831600"/>
            </a:xfrm>
            <a:custGeom>
              <a:avLst/>
              <a:gdLst>
                <a:gd name="textAreaLeft" fmla="*/ 4320 w 95040"/>
                <a:gd name="textAreaRight" fmla="*/ 90720 w 95040"/>
                <a:gd name="textAreaTop" fmla="*/ 4320 h 831600"/>
                <a:gd name="textAreaBottom" fmla="*/ 827280 h 831600"/>
              </a:gdLst>
              <a:ahLst/>
              <a:rect l="textAreaLeft" t="textAreaTop" r="textAreaRight" b="textAreaBottom"/>
              <a:pathLst>
                <a:path w="21600" h="188368">
                  <a:moveTo>
                    <a:pt x="3600" y="0"/>
                  </a:moveTo>
                  <a:arcTo wR="3600" hR="3600" stAng="16200000" swAng="-5400000"/>
                  <a:lnTo>
                    <a:pt x="0" y="184768"/>
                  </a:lnTo>
                  <a:arcTo wR="3600" hR="3600" stAng="10800000" swAng="-5400000"/>
                  <a:lnTo>
                    <a:pt x="18000" y="1883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5400000">
              <a:off x="6819480" y="3848040"/>
              <a:ext cx="1143000" cy="30492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7123800">
              <a:off x="6876360" y="4689360"/>
              <a:ext cx="668520" cy="1983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14475600">
              <a:off x="7260120" y="4747320"/>
              <a:ext cx="641520" cy="7452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781680" y="5029200"/>
              <a:ext cx="381240" cy="381240"/>
            </a:xfrm>
            <a:prstGeom prst="ellipse">
              <a:avLst/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620120" y="5010120"/>
              <a:ext cx="228600" cy="247680"/>
            </a:xfrm>
            <a:prstGeom prst="ellipse">
              <a:avLst/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620120" y="3429000"/>
              <a:ext cx="152280" cy="990720"/>
            </a:xfrm>
            <a:custGeom>
              <a:avLst/>
              <a:gdLst>
                <a:gd name="textAreaLeft" fmla="*/ 7200 w 152280"/>
                <a:gd name="textAreaRight" fmla="*/ 145080 w 152280"/>
                <a:gd name="textAreaTop" fmla="*/ 7200 h 990720"/>
                <a:gd name="textAreaBottom" fmla="*/ 983520 h 990720"/>
              </a:gdLst>
              <a:ahLst/>
              <a:rect l="textAreaLeft" t="textAreaTop" r="textAreaRight" b="textAreaBottom"/>
              <a:pathLst>
                <a:path w="21600" h="140247">
                  <a:moveTo>
                    <a:pt x="3600" y="0"/>
                  </a:moveTo>
                  <a:arcTo wR="3600" hR="3600" stAng="16200000" swAng="-5400000"/>
                  <a:lnTo>
                    <a:pt x="0" y="136647"/>
                  </a:lnTo>
                  <a:arcTo wR="3600" hR="3600" stAng="10800000" swAng="-5400000"/>
                  <a:lnTo>
                    <a:pt x="18000" y="1402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172200" y="5562720"/>
              <a:ext cx="2362320" cy="38088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696080" y="5486400"/>
              <a:ext cx="685800" cy="381240"/>
            </a:xfrm>
            <a:prstGeom prst="lightningBolt">
              <a:avLst/>
            </a:prstGeom>
            <a:solidFill>
              <a:srgbClr val="800080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4724280" y="6080040"/>
            <a:ext cx="4419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病因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慢阻肺，限制性肺通气障碍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9960" cy="22860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1080" y="227880"/>
            <a:ext cx="23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r>
              <a:rPr b="0" lang="zh-CN" sz="8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2438280" y="3429000"/>
            <a:ext cx="3733920" cy="2514600"/>
            <a:chOff x="2438280" y="3429000"/>
            <a:chExt cx="3733920" cy="2514600"/>
          </a:xfrm>
        </p:grpSpPr>
        <p:sp>
          <p:nvSpPr>
            <p:cNvPr id="455" name=""/>
            <p:cNvSpPr/>
            <p:nvPr/>
          </p:nvSpPr>
          <p:spPr>
            <a:xfrm>
              <a:off x="3581280" y="36576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气管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181480" y="35956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肺动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438280" y="556272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肺静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58" name=""/>
            <p:cNvGrpSpPr/>
            <p:nvPr/>
          </p:nvGrpSpPr>
          <p:grpSpPr>
            <a:xfrm>
              <a:off x="3505320" y="3429000"/>
              <a:ext cx="2361960" cy="2514600"/>
              <a:chOff x="3505320" y="3429000"/>
              <a:chExt cx="2361960" cy="2514600"/>
            </a:xfrm>
          </p:grpSpPr>
          <p:sp>
            <p:nvSpPr>
              <p:cNvPr id="459" name=""/>
              <p:cNvSpPr/>
              <p:nvPr/>
            </p:nvSpPr>
            <p:spPr>
              <a:xfrm flipH="1" rot="10173000">
                <a:off x="4771440" y="4715280"/>
                <a:ext cx="581040" cy="85212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rot="20785200">
                <a:off x="4800600" y="4876920"/>
                <a:ext cx="53352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 rot="21087000">
                <a:off x="5055840" y="4400640"/>
                <a:ext cx="74520" cy="532800"/>
              </a:xfrm>
              <a:custGeom>
                <a:avLst/>
                <a:gdLst>
                  <a:gd name="textAreaLeft" fmla="*/ 3600 w 74520"/>
                  <a:gd name="textAreaRight" fmla="*/ 70920 w 74520"/>
                  <a:gd name="textAreaTop" fmla="*/ 3600 h 532800"/>
                  <a:gd name="textAreaBottom" fmla="*/ 529200 h 532800"/>
                </a:gdLst>
                <a:ahLst/>
                <a:rect l="textAreaLeft" t="textAreaTop" r="textAreaRight" b="textAreaBottom"/>
                <a:pathLst>
                  <a:path w="21600" h="153796">
                    <a:moveTo>
                      <a:pt x="3600" y="0"/>
                    </a:moveTo>
                    <a:arcTo wR="3600" hR="3600" stAng="16200000" swAng="-5400000"/>
                    <a:lnTo>
                      <a:pt x="0" y="150196"/>
                    </a:lnTo>
                    <a:arcTo wR="3600" hR="3600" stAng="10800000" swAng="-5400000"/>
                    <a:lnTo>
                      <a:pt x="18000" y="15379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 rot="12664200">
                <a:off x="4037040" y="4876560"/>
                <a:ext cx="584280" cy="6591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rot="1741800">
                <a:off x="4076280" y="4941360"/>
                <a:ext cx="53352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rot="1897200">
                <a:off x="4743000" y="4336560"/>
                <a:ext cx="95400" cy="831960"/>
              </a:xfrm>
              <a:custGeom>
                <a:avLst/>
                <a:gdLst>
                  <a:gd name="textAreaLeft" fmla="*/ 4320 w 95400"/>
                  <a:gd name="textAreaRight" fmla="*/ 91080 w 95400"/>
                  <a:gd name="textAreaTop" fmla="*/ 4320 h 831960"/>
                  <a:gd name="textAreaBottom" fmla="*/ 827640 h 831960"/>
                </a:gdLst>
                <a:ahLst/>
                <a:rect l="textAreaLeft" t="textAreaTop" r="textAreaRight" b="textAreaBottom"/>
                <a:pathLst>
                  <a:path w="21600" h="187741">
                    <a:moveTo>
                      <a:pt x="3600" y="0"/>
                    </a:moveTo>
                    <a:arcTo wR="3600" hR="3600" stAng="16200000" swAng="-5400000"/>
                    <a:lnTo>
                      <a:pt x="0" y="184141"/>
                    </a:lnTo>
                    <a:arcTo wR="3600" hR="3600" stAng="10800000" swAng="-5400000"/>
                    <a:lnTo>
                      <a:pt x="18000" y="18774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rot="5400000">
                <a:off x="4152600" y="3848040"/>
                <a:ext cx="1143000" cy="30492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rot="7123800">
                <a:off x="4162320" y="4687200"/>
                <a:ext cx="668520" cy="15228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 rot="14476200">
                <a:off x="4582080" y="4692600"/>
                <a:ext cx="668520" cy="18216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114800" y="50292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896000" y="5010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952880" y="3429000"/>
                <a:ext cx="152640" cy="990720"/>
              </a:xfrm>
              <a:custGeom>
                <a:avLst/>
                <a:gdLst>
                  <a:gd name="textAreaLeft" fmla="*/ 7200 w 152640"/>
                  <a:gd name="textAreaRight" fmla="*/ 145440 w 152640"/>
                  <a:gd name="textAreaTop" fmla="*/ 7200 h 990720"/>
                  <a:gd name="textAreaBottom" fmla="*/ 983520 h 990720"/>
                </a:gdLst>
                <a:ahLst/>
                <a:rect l="textAreaLeft" t="textAreaTop" r="textAreaRight" b="textAreaBottom"/>
                <a:pathLst>
                  <a:path w="21600" h="139917">
                    <a:moveTo>
                      <a:pt x="3600" y="0"/>
                    </a:moveTo>
                    <a:arcTo wR="3600" hR="3600" stAng="16200000" swAng="-5400000"/>
                    <a:lnTo>
                      <a:pt x="0" y="136317"/>
                    </a:lnTo>
                    <a:arcTo wR="3600" hR="3600" stAng="10800000" swAng="-5400000"/>
                    <a:lnTo>
                      <a:pt x="18000" y="13991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505320" y="5562720"/>
                <a:ext cx="236196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1095480" y="1523880"/>
            <a:ext cx="75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．部分肺泡血流不足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死腔样通气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25320" y="2209680"/>
            <a:ext cx="333720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c00"/>
                </a:solidFill>
                <a:latin typeface="Times New Roman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由于病变肺泡血流明显减少，而通气未相应减少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,V/Q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显著增加，使这部分肺泡的通气不能被充分利用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038480" y="6095880"/>
            <a:ext cx="49723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病因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肺动脉栓塞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I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肺血管收缩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6400800" y="3200400"/>
            <a:ext cx="2362320" cy="2514600"/>
            <a:chOff x="6400800" y="3200400"/>
            <a:chExt cx="2362320" cy="2514600"/>
          </a:xfrm>
        </p:grpSpPr>
        <p:sp>
          <p:nvSpPr>
            <p:cNvPr id="476" name=""/>
            <p:cNvSpPr/>
            <p:nvPr/>
          </p:nvSpPr>
          <p:spPr>
            <a:xfrm rot="20785200">
              <a:off x="7696080" y="4695840"/>
              <a:ext cx="533520" cy="457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6400800" y="3200400"/>
              <a:ext cx="2362320" cy="2514600"/>
              <a:chOff x="6400800" y="3200400"/>
              <a:chExt cx="2362320" cy="2514600"/>
            </a:xfrm>
          </p:grpSpPr>
          <p:sp>
            <p:nvSpPr>
              <p:cNvPr id="478" name=""/>
              <p:cNvSpPr/>
              <p:nvPr/>
            </p:nvSpPr>
            <p:spPr>
              <a:xfrm flipH="1" rot="10173000">
                <a:off x="7679520" y="4451040"/>
                <a:ext cx="528840" cy="808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66"/>
              </a:solidFill>
              <a:ln w="5724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 rot="12664200">
                <a:off x="6919920" y="4674960"/>
                <a:ext cx="584280" cy="6591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rot="1741800">
                <a:off x="6972120" y="4713480"/>
                <a:ext cx="53316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rot="1897200">
                <a:off x="7619760" y="4114440"/>
                <a:ext cx="95040" cy="831960"/>
              </a:xfrm>
              <a:custGeom>
                <a:avLst/>
                <a:gdLst>
                  <a:gd name="textAreaLeft" fmla="*/ 4320 w 95040"/>
                  <a:gd name="textAreaRight" fmla="*/ 90720 w 95040"/>
                  <a:gd name="textAreaTop" fmla="*/ 4320 h 831960"/>
                  <a:gd name="textAreaBottom" fmla="*/ 827640 h 831960"/>
                </a:gdLst>
                <a:ahLst/>
                <a:rect l="textAreaLeft" t="textAreaTop" r="textAreaRight" b="textAreaBottom"/>
                <a:pathLst>
                  <a:path w="21600" h="188450">
                    <a:moveTo>
                      <a:pt x="3600" y="0"/>
                    </a:moveTo>
                    <a:arcTo wR="3600" hR="3600" stAng="16200000" swAng="-5400000"/>
                    <a:lnTo>
                      <a:pt x="0" y="184850"/>
                    </a:lnTo>
                    <a:arcTo wR="3600" hR="3600" stAng="10800000" swAng="-5400000"/>
                    <a:lnTo>
                      <a:pt x="18000" y="18845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rot="5400000">
                <a:off x="7048080" y="3619440"/>
                <a:ext cx="1143000" cy="30492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rot="7123800">
                <a:off x="7104960" y="4460760"/>
                <a:ext cx="668520" cy="19836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rot="14475600">
                <a:off x="7449840" y="4495680"/>
                <a:ext cx="641520" cy="158760"/>
              </a:xfrm>
              <a:prstGeom prst="roundRect">
                <a:avLst>
                  <a:gd name="adj" fmla="val 50000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7010280" y="4800600"/>
                <a:ext cx="381240" cy="38124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772400" y="4781520"/>
                <a:ext cx="380880" cy="40032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848720" y="3200400"/>
                <a:ext cx="152280" cy="990720"/>
              </a:xfrm>
              <a:custGeom>
                <a:avLst/>
                <a:gdLst>
                  <a:gd name="textAreaLeft" fmla="*/ 7200 w 152280"/>
                  <a:gd name="textAreaRight" fmla="*/ 145080 w 152280"/>
                  <a:gd name="textAreaTop" fmla="*/ 7200 h 990720"/>
                  <a:gd name="textAreaBottom" fmla="*/ 983520 h 990720"/>
                </a:gdLst>
                <a:ahLst/>
                <a:rect l="textAreaLeft" t="textAreaTop" r="textAreaRight" b="textAreaBottom"/>
                <a:pathLst>
                  <a:path w="21600" h="140247">
                    <a:moveTo>
                      <a:pt x="3600" y="0"/>
                    </a:moveTo>
                    <a:arcTo wR="3600" hR="3600" stAng="16200000" swAng="-5400000"/>
                    <a:lnTo>
                      <a:pt x="0" y="136647"/>
                    </a:lnTo>
                    <a:arcTo wR="3600" hR="3600" stAng="10800000" swAng="-5400000"/>
                    <a:lnTo>
                      <a:pt x="18000" y="14024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400800" y="5334120"/>
                <a:ext cx="236232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7924680" y="5257800"/>
                <a:ext cx="685800" cy="381240"/>
              </a:xfrm>
              <a:prstGeom prst="lightningBolt">
                <a:avLst/>
              </a:prstGeom>
              <a:solidFill>
                <a:srgbClr val="cc99ff"/>
              </a:solidFill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963920" y="4190400"/>
                <a:ext cx="46440" cy="531720"/>
              </a:xfrm>
              <a:prstGeom prst="line">
                <a:avLst/>
              </a:prstGeom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491" name=""/>
          <p:cNvGrpSpPr/>
          <p:nvPr/>
        </p:nvGrpSpPr>
        <p:grpSpPr>
          <a:xfrm>
            <a:off x="2743200" y="3200400"/>
            <a:ext cx="3733920" cy="2514600"/>
            <a:chOff x="2743200" y="3200400"/>
            <a:chExt cx="3733920" cy="2514600"/>
          </a:xfrm>
        </p:grpSpPr>
        <p:sp>
          <p:nvSpPr>
            <p:cNvPr id="492" name=""/>
            <p:cNvSpPr/>
            <p:nvPr/>
          </p:nvSpPr>
          <p:spPr>
            <a:xfrm>
              <a:off x="3886200" y="34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气管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486400" y="33670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肺动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743200" y="533412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肺静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95" name=""/>
            <p:cNvGrpSpPr/>
            <p:nvPr/>
          </p:nvGrpSpPr>
          <p:grpSpPr>
            <a:xfrm>
              <a:off x="3810240" y="3200400"/>
              <a:ext cx="2361960" cy="2514600"/>
              <a:chOff x="3810240" y="3200400"/>
              <a:chExt cx="2361960" cy="2514600"/>
            </a:xfrm>
          </p:grpSpPr>
          <p:sp>
            <p:nvSpPr>
              <p:cNvPr id="496" name=""/>
              <p:cNvSpPr/>
              <p:nvPr/>
            </p:nvSpPr>
            <p:spPr>
              <a:xfrm flipH="1" rot="10173000">
                <a:off x="5076360" y="4486680"/>
                <a:ext cx="581040" cy="85212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rot="20785200">
                <a:off x="5105520" y="4648320"/>
                <a:ext cx="53352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H="1" rot="21087000">
                <a:off x="5360760" y="4172040"/>
                <a:ext cx="74520" cy="532800"/>
              </a:xfrm>
              <a:custGeom>
                <a:avLst/>
                <a:gdLst>
                  <a:gd name="textAreaLeft" fmla="*/ 3600 w 74520"/>
                  <a:gd name="textAreaRight" fmla="*/ 70920 w 74520"/>
                  <a:gd name="textAreaTop" fmla="*/ 3600 h 532800"/>
                  <a:gd name="textAreaBottom" fmla="*/ 529200 h 532800"/>
                </a:gdLst>
                <a:ahLst/>
                <a:rect l="textAreaLeft" t="textAreaTop" r="textAreaRight" b="textAreaBottom"/>
                <a:pathLst>
                  <a:path w="21600" h="153796">
                    <a:moveTo>
                      <a:pt x="3600" y="0"/>
                    </a:moveTo>
                    <a:arcTo wR="3600" hR="3600" stAng="16200000" swAng="-5400000"/>
                    <a:lnTo>
                      <a:pt x="0" y="150196"/>
                    </a:lnTo>
                    <a:arcTo wR="3600" hR="3600" stAng="10800000" swAng="-5400000"/>
                    <a:lnTo>
                      <a:pt x="18000" y="15379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H="1" rot="12664200">
                <a:off x="4341960" y="4647960"/>
                <a:ext cx="584280" cy="6591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rot="1741800">
                <a:off x="4381200" y="4712760"/>
                <a:ext cx="53352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rot="1897200">
                <a:off x="5047920" y="4107960"/>
                <a:ext cx="95400" cy="831960"/>
              </a:xfrm>
              <a:custGeom>
                <a:avLst/>
                <a:gdLst>
                  <a:gd name="textAreaLeft" fmla="*/ 4320 w 95400"/>
                  <a:gd name="textAreaRight" fmla="*/ 91080 w 95400"/>
                  <a:gd name="textAreaTop" fmla="*/ 4320 h 831960"/>
                  <a:gd name="textAreaBottom" fmla="*/ 827640 h 831960"/>
                </a:gdLst>
                <a:ahLst/>
                <a:rect l="textAreaLeft" t="textAreaTop" r="textAreaRight" b="textAreaBottom"/>
                <a:pathLst>
                  <a:path w="21600" h="187741">
                    <a:moveTo>
                      <a:pt x="3600" y="0"/>
                    </a:moveTo>
                    <a:arcTo wR="3600" hR="3600" stAng="16200000" swAng="-5400000"/>
                    <a:lnTo>
                      <a:pt x="0" y="184141"/>
                    </a:lnTo>
                    <a:arcTo wR="3600" hR="3600" stAng="10800000" swAng="-5400000"/>
                    <a:lnTo>
                      <a:pt x="18000" y="18774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rot="5400000">
                <a:off x="4457520" y="3619440"/>
                <a:ext cx="1143000" cy="30492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rot="7123800">
                <a:off x="4467240" y="4458600"/>
                <a:ext cx="668520" cy="15228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H="1" rot="14476200">
                <a:off x="4862160" y="4433400"/>
                <a:ext cx="668160" cy="18288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419720" y="48006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200920" y="47815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257800" y="3200400"/>
                <a:ext cx="152640" cy="990720"/>
              </a:xfrm>
              <a:custGeom>
                <a:avLst/>
                <a:gdLst>
                  <a:gd name="textAreaLeft" fmla="*/ 7200 w 152640"/>
                  <a:gd name="textAreaRight" fmla="*/ 145440 w 152640"/>
                  <a:gd name="textAreaTop" fmla="*/ 7200 h 990720"/>
                  <a:gd name="textAreaBottom" fmla="*/ 983520 h 990720"/>
                </a:gdLst>
                <a:ahLst/>
                <a:rect l="textAreaLeft" t="textAreaTop" r="textAreaRight" b="textAreaBottom"/>
                <a:pathLst>
                  <a:path w="21600" h="139917">
                    <a:moveTo>
                      <a:pt x="3600" y="0"/>
                    </a:moveTo>
                    <a:arcTo wR="3600" hR="3600" stAng="16200000" swAng="-5400000"/>
                    <a:lnTo>
                      <a:pt x="0" y="136317"/>
                    </a:lnTo>
                    <a:arcTo wR="3600" hR="3600" stAng="10800000" swAng="-5400000"/>
                    <a:lnTo>
                      <a:pt x="18000" y="13991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810240" y="5334120"/>
                <a:ext cx="236196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b8a91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2b8a91"/>
                </a:solidFill>
                <a:latin typeface="黑体"/>
                <a:ea typeface="黑体"/>
              </a:rPr>
              <a:t>肺泡通气血流比例失调时的血气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1733400" y="2514600"/>
            <a:ext cx="19242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581280" y="2514600"/>
            <a:ext cx="0" cy="53352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952880" y="4952880"/>
            <a:ext cx="1828800" cy="45972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不足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800600" y="3886200"/>
            <a:ext cx="2266920" cy="45972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代偿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过度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343400" y="373392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3581280" y="4952880"/>
            <a:ext cx="0" cy="53352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581280" y="4114800"/>
            <a:ext cx="0" cy="53352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714680" y="3676680"/>
            <a:ext cx="1776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宋体"/>
              </a:rPr>
              <a:t>PaC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29000" y="3886200"/>
            <a:ext cx="45720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1271520"/>
            <a:ext cx="65530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（三）解剖分流增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2614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黑体"/>
              </a:rPr>
              <a:t>解剖分流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200400" y="2092320"/>
            <a:ext cx="5334120" cy="56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部分支气管静脉和极少的肺内动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-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静脉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交通支直接流入肺静脉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133720" y="3257640"/>
            <a:ext cx="5943600" cy="47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病因：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支气管扩张症、慢阻肺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905120" y="4952880"/>
            <a:ext cx="4343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病因：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肺实变，肺不张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252960" y="3887640"/>
            <a:ext cx="571968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肺泡的血液完全未经气体交换的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过程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990720" y="3886200"/>
            <a:ext cx="2614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黑体"/>
              </a:rPr>
              <a:t>真性分流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1600200" y="1295280"/>
            <a:ext cx="6369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核心问题：低氧血症    高碳酸血症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838080" y="18288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（一）酸碱平衡及电解质紊乱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371600" y="28195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代谢性酸中毒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191120" y="3733920"/>
            <a:ext cx="2209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二氧化碳潴留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851280" y="4267080"/>
            <a:ext cx="335268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血钾增高，血氯降低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407960" y="3933720"/>
            <a:ext cx="27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性酸中毒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733920" y="2590920"/>
            <a:ext cx="3600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缺氧、肾功能不全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809880" y="3124080"/>
            <a:ext cx="335304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血钾增高，血氯升高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403280" y="508464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性碱中毒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851280" y="4876920"/>
            <a:ext cx="3809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过度，二氧化碳降低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886200" y="5410080"/>
            <a:ext cx="342900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血钾降低，血氯升高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第三节 呼吸功能不全时机体的变化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7BF852EB-E3D7-4134-A516-BBCFECCE8DF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60880" y="3505320"/>
            <a:ext cx="405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2362320"/>
            <a:ext cx="8077320" cy="19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   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、呼吸功能不全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respiratory insufficiency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是指当外呼吸功能严重障碍，静息时动脉血氧分压低于正常范围，伴有或不伴有二氧化碳分压（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PaC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）增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高的病理过程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90720" y="167652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92aa2"/>
                </a:solidFill>
                <a:latin typeface="黑体"/>
                <a:ea typeface="黑体"/>
              </a:rPr>
              <a:t>一、呼吸功能不全的概念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第一节 呼吸功能不全的概念及分类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28600" y="1142640"/>
            <a:ext cx="4595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（二）呼吸系统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2842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黑体"/>
              </a:rPr>
              <a:t>代偿适应反应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124080" y="1981080"/>
            <a:ext cx="1371600" cy="92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      60-30mmHg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086440" y="177156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颈动脉体主动脉体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143000" y="2743200"/>
            <a:ext cx="1600200" cy="45972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  <a:ea typeface="黑体"/>
              </a:rPr>
              <a:t>呼吸运动加强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029200" y="242244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化学感受器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477120" y="2438280"/>
            <a:ext cx="76176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391520" y="2666880"/>
            <a:ext cx="1447560" cy="45972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中枢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324480" y="27432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反射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048120" y="2971800"/>
            <a:ext cx="1600200" cy="92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      50-80mmHg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495680" y="2209680"/>
            <a:ext cx="0" cy="3812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4495680" y="3200400"/>
            <a:ext cx="0" cy="3808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705200" y="3409920"/>
            <a:ext cx="381240" cy="0"/>
          </a:xfrm>
          <a:prstGeom prst="line">
            <a:avLst/>
          </a:prstGeom>
          <a:ln w="28440">
            <a:solidFill>
              <a:srgbClr val="2b8a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105520" y="30481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延髓化学感受器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6419520" y="3091320"/>
            <a:ext cx="799560" cy="293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33520" y="48006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黑体"/>
              </a:rPr>
              <a:t>失代偿反应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143000" y="5486400"/>
            <a:ext cx="1676520" cy="45972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  <a:ea typeface="黑体"/>
              </a:rPr>
              <a:t>呼吸抑制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981080" y="3962520"/>
            <a:ext cx="1295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66"/>
                </a:solidFill>
                <a:latin typeface="Times New Roman"/>
                <a:ea typeface="黑体"/>
              </a:rPr>
              <a:t>吸氧：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895480" y="3962520"/>
            <a:ext cx="5029200" cy="39888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66"/>
                </a:solidFill>
                <a:latin typeface="Times New Roman"/>
                <a:ea typeface="宋体"/>
              </a:rPr>
              <a:t>低浓度（</a:t>
            </a:r>
            <a:r>
              <a:rPr b="1" lang="zh-CN" sz="2000" spc="-1" strike="noStrike">
                <a:solidFill>
                  <a:srgbClr val="660066"/>
                </a:solidFill>
                <a:latin typeface="Times New Roman"/>
                <a:ea typeface="宋体"/>
              </a:rPr>
              <a:t>24%-30%</a:t>
            </a:r>
            <a:r>
              <a:rPr b="1" lang="zh-CN" sz="2000" spc="-1" strike="noStrike">
                <a:solidFill>
                  <a:srgbClr val="660066"/>
                </a:solidFill>
                <a:latin typeface="Times New Roman"/>
                <a:ea typeface="宋体"/>
              </a:rPr>
              <a:t>），低流量，间歇给氧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029200" y="4800600"/>
            <a:ext cx="1447920" cy="1191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浅而慢       潮式呼吸   间歇呼吸   抽泣样呼吸  叹气样呼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705720" y="5181480"/>
            <a:ext cx="2133360" cy="7038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性呼吸困难呼气性呼吸困难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3348000" y="4952880"/>
            <a:ext cx="1447920" cy="1116720"/>
            <a:chOff x="3348000" y="4952880"/>
            <a:chExt cx="1447920" cy="1116720"/>
          </a:xfrm>
        </p:grpSpPr>
        <p:sp>
          <p:nvSpPr>
            <p:cNvPr id="560" name=""/>
            <p:cNvSpPr/>
            <p:nvPr/>
          </p:nvSpPr>
          <p:spPr>
            <a:xfrm>
              <a:off x="3348000" y="4952880"/>
              <a:ext cx="1447920" cy="11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a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aC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4643280" y="5005440"/>
              <a:ext cx="5040" cy="352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4648320" y="5586480"/>
              <a:ext cx="0" cy="3808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4724280" y="2362320"/>
            <a:ext cx="381240" cy="0"/>
          </a:xfrm>
          <a:prstGeom prst="line">
            <a:avLst/>
          </a:prstGeom>
          <a:ln w="28440">
            <a:solidFill>
              <a:srgbClr val="2b8a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61760" y="1218960"/>
            <a:ext cx="6019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（三）中枢神经系统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5867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轻度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＜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6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638680" y="2057400"/>
            <a:ext cx="312444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智力和视力减退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066680" y="2743200"/>
            <a:ext cx="4648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中度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40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5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638680" y="2666880"/>
            <a:ext cx="3124440" cy="709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  </a:t>
            </a: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头痛，记忆障碍，嗜睡，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精神错乱，惊厥，昏迷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066680" y="3505320"/>
            <a:ext cx="4343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重度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黑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＜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2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638680" y="3505320"/>
            <a:ext cx="320040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神经细胞不可逆损伤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143000" y="4114800"/>
            <a:ext cx="3352680" cy="52056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二氧化碳麻醉：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143000" y="4724280"/>
            <a:ext cx="7696080" cy="56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由于二氧化碳潴留（＞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80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，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引起头痛、头晕、烦躁不安、扑翼样震颤、精神错乱、嗜睡、抽搐、呼吸抑制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609480" y="1371600"/>
            <a:ext cx="1981440" cy="52056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肺性脑病：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666880" y="1371600"/>
            <a:ext cx="590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由于呼吸衰竭引起的脑功能障碍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09480" y="1981080"/>
            <a:ext cx="1371600" cy="52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机制：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762120" y="4800600"/>
            <a:ext cx="76960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神经细胞内酸中毒可使脑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谷氨酸脱羧酶活性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增强，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γ-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氨基丁酸增多，导致脑功能抑制；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磷脂酶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激活，造成脑细胞损伤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990720" y="2438280"/>
            <a:ext cx="5813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. 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酸中毒和缺氧对脑血管的作用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     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85800" y="2971800"/>
            <a:ext cx="76960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脑血管扩张使脑血流增加 ；脑血管通透性增加造成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宋体"/>
              </a:rPr>
              <a:t>脑间质水肿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。缺氧使细胞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ATP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生成减少，钠泵功能下降，形成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宋体"/>
              </a:rPr>
              <a:t>脑细胞水肿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066680" y="4191120"/>
            <a:ext cx="5867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. 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酸中毒和缺氧对脑细胞的作用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2971800" y="4495680"/>
            <a:ext cx="1523880" cy="111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5943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（四）循环系统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黑体"/>
              </a:rPr>
              <a:t>代偿反应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143000" y="2743200"/>
            <a:ext cx="1447920" cy="79632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心功能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加强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743200" y="2590920"/>
            <a:ext cx="1447920" cy="111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962520" y="2590920"/>
            <a:ext cx="0" cy="4572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3962520" y="3200400"/>
            <a:ext cx="0" cy="4572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191120" y="31240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191120" y="26668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反射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876920" y="274320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血管  中枢兴奋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019920" y="31240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6381720" y="2438280"/>
            <a:ext cx="154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率加快  心缩力加强 血管收缩     回心血增加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914400" y="3886200"/>
            <a:ext cx="3048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黑体"/>
              </a:rPr>
              <a:t>失代偿反应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191120" y="3124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交感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876920" y="4495680"/>
            <a:ext cx="121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酸中毒   高钾血症缺氧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153120" y="5037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3080" y="4479840"/>
            <a:ext cx="18288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血压下降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缩力下降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律失常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343400" y="50292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162080" y="4664160"/>
            <a:ext cx="1581120" cy="82548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心功受抑血管扩张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4037040" y="4572000"/>
            <a:ext cx="1440" cy="3808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4038480" y="5105520"/>
            <a:ext cx="1800" cy="3808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848720" y="2743200"/>
            <a:ext cx="1143000" cy="39888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输出量增加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4189320" y="4572000"/>
            <a:ext cx="1800" cy="3808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4191120" y="5105520"/>
            <a:ext cx="1440" cy="3808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066320" y="1492200"/>
            <a:ext cx="48769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（五）肾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752480" y="236196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急性肾衰竭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143000" y="3048120"/>
            <a:ext cx="50529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  <a:ea typeface="宋体"/>
              </a:rPr>
              <a:t>（六）消化系统功能障碍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752480" y="4038480"/>
            <a:ext cx="7086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胃酸增加，胃黏膜糜烂、坏死、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出 血、溃疡形成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/>
          </p:nvPr>
        </p:nvSpPr>
        <p:spPr>
          <a:xfrm>
            <a:off x="837720" y="1447560"/>
            <a:ext cx="6705720" cy="67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防止与去除呼吸衰竭的原因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838080" y="2362320"/>
            <a:ext cx="2705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提高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黑体"/>
              </a:rPr>
              <a:t>PaO</a:t>
            </a:r>
            <a:r>
              <a:rPr b="1" lang="en-US" sz="3200" spc="-1" strike="noStrike" baseline="-25000">
                <a:solidFill>
                  <a:srgbClr val="660066"/>
                </a:solidFill>
                <a:latin typeface="Arial"/>
                <a:ea typeface="黑体"/>
              </a:rPr>
              <a:t>2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447920" y="32004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Ⅰ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型呼衰可吸较高浓度的氧，但不超过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50%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914400" y="4952880"/>
            <a:ext cx="6551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改善内环境及重要器官的功能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第四节 呼吸功能不全的防治原则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201560" y="2438280"/>
            <a:ext cx="373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Ⅱ 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型呼衰吸较低浓度的氧，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30%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914400" y="4038480"/>
            <a:ext cx="358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降低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黑体"/>
              </a:rPr>
              <a:t>PaCO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  <a:ea typeface="黑体"/>
              </a:rPr>
              <a:t>2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6BD5263-56D2-4DDC-8395-2C5C2DFE33B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666880" cy="82692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Verdana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Verdana"/>
                <a:ea typeface="楷体_GB2312"/>
              </a:rPr>
              <a:t>病例分析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0010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男性，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65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岁，吸烟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40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余年，慢性咳嗽，咳痰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20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余年。近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周因感冒后上述症状加重并出现呼吸困难。查体：两肺呼吸音减弱，肺下界下移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两肺底有细小湿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啰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音。血气化验结果：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H7.18, PaC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75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40mmHg, HC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 baseline="30000">
                <a:solidFill>
                  <a:srgbClr val="1d528d"/>
                </a:solidFill>
                <a:latin typeface="Times New Roman"/>
                <a:ea typeface="宋体"/>
              </a:rPr>
              <a:t>-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27.6mmol/L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BE-5mmol/L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问题：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   ①</a:t>
            </a: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该病人发生了哪型呼衰，诊断依据是什么？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   ②</a:t>
            </a: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该病人发生了哪种类型的酸碱平衡紊乱。</a:t>
            </a:r>
            <a:r>
              <a:rPr b="0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/>
          </p:nvPr>
        </p:nvSpPr>
        <p:spPr>
          <a:xfrm>
            <a:off x="685800" y="41911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"/>
                <a:ea typeface="楷体"/>
              </a:rPr>
              <a:t>② </a:t>
            </a:r>
            <a:r>
              <a:rPr b="1" lang="zh-CN" sz="2800" spc="-1" strike="noStrike">
                <a:solidFill>
                  <a:srgbClr val="1d528d"/>
                </a:solidFill>
                <a:latin typeface="楷体"/>
                <a:ea typeface="楷体"/>
              </a:rPr>
              <a:t>该病人发生了哪种类型的酸碱平衡紊乱</a:t>
            </a:r>
            <a:r>
              <a:rPr b="1" lang="en-US" sz="2800" spc="-1" strike="noStrike">
                <a:solidFill>
                  <a:srgbClr val="1d528d"/>
                </a:solidFill>
                <a:latin typeface="楷体"/>
                <a:ea typeface="楷体"/>
              </a:rPr>
              <a:t>?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1d528d"/>
                </a:solidFill>
                <a:latin typeface="楷体"/>
                <a:ea typeface="楷体"/>
              </a:rPr>
              <a:t>呼吸性酸中毒合并代谢性酸中毒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title"/>
          </p:nvPr>
        </p:nvSpPr>
        <p:spPr>
          <a:xfrm>
            <a:off x="0" y="304560"/>
            <a:ext cx="2666880" cy="82692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Verdana"/>
                <a:ea typeface="楷体"/>
              </a:rPr>
              <a:t>参考答案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9" name=""/>
          <p:cNvSpPr/>
          <p:nvPr/>
        </p:nvSpPr>
        <p:spPr>
          <a:xfrm>
            <a:off x="1976760" y="1581120"/>
            <a:ext cx="484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楷体"/>
              </a:rPr>
              <a:t>① 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楷体"/>
              </a:rPr>
              <a:t>该病人发生了哪型呼衰，诊断依据是什么？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143000" y="2170080"/>
            <a:ext cx="762012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该病人发生了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Ⅱ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型呼吸衰竭。诊断依据是：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40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低于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60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；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CO</a:t>
            </a:r>
            <a:r>
              <a:rPr b="1" lang="en-US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75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大于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50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260880" y="3505320"/>
            <a:ext cx="405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2057400"/>
            <a:ext cx="8381880" cy="20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、呼吸衰竭（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respiratory failure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是呼吸功能不全的严重阶段。临床上通常以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＜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8.0kPa (60mmHg), PaC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＞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6.67kPa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50mmHg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）作为判断呼吸衰竭的指标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4760" y="533520"/>
            <a:ext cx="5105160" cy="4572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Verdana"/>
                <a:ea typeface="宋体"/>
              </a:rPr>
              <a:t>呼吸衰竭指标的依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00200" y="1218960"/>
            <a:ext cx="55864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 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＜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8kPa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6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00200" y="18288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正常值：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10.4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～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13.3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kPa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80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100mmHg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2514600"/>
            <a:ext cx="6019920" cy="3429000"/>
          </a:xfrm>
          <a:prstGeom prst="rect">
            <a:avLst/>
          </a:prstGeom>
          <a:solidFill>
            <a:srgbClr val="2b8a91"/>
          </a:solidFill>
          <a:ln cap="sq" w="1260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00800" y="5653080"/>
            <a:ext cx="1676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(mmHg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371760" y="2876400"/>
          <a:ext cx="2971800" cy="2676600"/>
        </p:xfrm>
        <a:graphic>
          <a:graphicData uri="http://schemas.openxmlformats.org/drawingml/2006/table">
            <a:tbl>
              <a:tblPr/>
              <a:tblGrid>
                <a:gridCol w="593640"/>
                <a:gridCol w="594000"/>
                <a:gridCol w="596880"/>
                <a:gridCol w="593640"/>
                <a:gridCol w="593640"/>
              </a:tblGrid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6059520" y="55245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10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02680" y="5410080"/>
            <a:ext cx="37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0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47960" y="5516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43400" y="552456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4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960800" y="551484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6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75320" y="5518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8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78200" y="48387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76400" y="4286160"/>
            <a:ext cx="4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4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95480" y="377208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6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97280" y="32194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8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82800" y="27241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10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14600" y="3581280"/>
            <a:ext cx="1157400" cy="1943280"/>
          </a:xfrm>
          <a:custGeom>
            <a:avLst/>
            <a:gdLst/>
            <a:ahLst/>
            <a:rect l="l" t="t" r="r" b="b"/>
            <a:pathLst>
              <a:path w="729" h="1224">
                <a:moveTo>
                  <a:pt x="0" y="1224"/>
                </a:moveTo>
                <a:cubicBezTo>
                  <a:pt x="84" y="1185"/>
                  <a:pt x="165" y="1082"/>
                  <a:pt x="106" y="1141"/>
                </a:cubicBezTo>
                <a:cubicBezTo>
                  <a:pt x="47" y="1200"/>
                  <a:pt x="177" y="1036"/>
                  <a:pt x="200" y="1000"/>
                </a:cubicBezTo>
                <a:cubicBezTo>
                  <a:pt x="223" y="964"/>
                  <a:pt x="231" y="948"/>
                  <a:pt x="243" y="923"/>
                </a:cubicBezTo>
                <a:cubicBezTo>
                  <a:pt x="257" y="900"/>
                  <a:pt x="224" y="941"/>
                  <a:pt x="271" y="847"/>
                </a:cubicBezTo>
                <a:cubicBezTo>
                  <a:pt x="305" y="801"/>
                  <a:pt x="341" y="742"/>
                  <a:pt x="341" y="742"/>
                </a:cubicBezTo>
                <a:cubicBezTo>
                  <a:pt x="361" y="695"/>
                  <a:pt x="411" y="628"/>
                  <a:pt x="435" y="577"/>
                </a:cubicBezTo>
                <a:cubicBezTo>
                  <a:pt x="459" y="526"/>
                  <a:pt x="468" y="471"/>
                  <a:pt x="482" y="436"/>
                </a:cubicBezTo>
                <a:cubicBezTo>
                  <a:pt x="510" y="373"/>
                  <a:pt x="499" y="400"/>
                  <a:pt x="517" y="365"/>
                </a:cubicBezTo>
                <a:cubicBezTo>
                  <a:pt x="535" y="330"/>
                  <a:pt x="553" y="285"/>
                  <a:pt x="588" y="224"/>
                </a:cubicBezTo>
                <a:cubicBezTo>
                  <a:pt x="647" y="95"/>
                  <a:pt x="665" y="86"/>
                  <a:pt x="729" y="0"/>
                </a:cubicBezTo>
              </a:path>
            </a:pathLst>
          </a:custGeom>
          <a:noFill/>
          <a:ln cap="sq" w="381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91080" y="3048120"/>
            <a:ext cx="596880" cy="554040"/>
          </a:xfrm>
          <a:custGeom>
            <a:avLst/>
            <a:gdLst/>
            <a:ahLst/>
            <a:rect l="l" t="t" r="r" b="b"/>
            <a:pathLst>
              <a:path w="376" h="349">
                <a:moveTo>
                  <a:pt x="0" y="349"/>
                </a:moveTo>
                <a:cubicBezTo>
                  <a:pt x="8" y="326"/>
                  <a:pt x="34" y="280"/>
                  <a:pt x="45" y="269"/>
                </a:cubicBezTo>
                <a:cubicBezTo>
                  <a:pt x="65" y="250"/>
                  <a:pt x="102" y="235"/>
                  <a:pt x="102" y="235"/>
                </a:cubicBezTo>
                <a:cubicBezTo>
                  <a:pt x="109" y="223"/>
                  <a:pt x="125" y="176"/>
                  <a:pt x="135" y="167"/>
                </a:cubicBezTo>
                <a:cubicBezTo>
                  <a:pt x="155" y="149"/>
                  <a:pt x="202" y="99"/>
                  <a:pt x="202" y="99"/>
                </a:cubicBezTo>
                <a:cubicBezTo>
                  <a:pt x="223" y="78"/>
                  <a:pt x="251" y="53"/>
                  <a:pt x="270" y="42"/>
                </a:cubicBezTo>
                <a:cubicBezTo>
                  <a:pt x="290" y="30"/>
                  <a:pt x="300" y="37"/>
                  <a:pt x="315" y="31"/>
                </a:cubicBezTo>
                <a:cubicBezTo>
                  <a:pt x="349" y="8"/>
                  <a:pt x="338" y="23"/>
                  <a:pt x="360" y="8"/>
                </a:cubicBezTo>
                <a:cubicBezTo>
                  <a:pt x="372" y="0"/>
                  <a:pt x="360" y="31"/>
                  <a:pt x="360" y="31"/>
                </a:cubicBezTo>
                <a:cubicBezTo>
                  <a:pt x="337" y="68"/>
                  <a:pt x="376" y="8"/>
                  <a:pt x="341" y="20"/>
                </a:cubicBezTo>
              </a:path>
            </a:pathLst>
          </a:custGeom>
          <a:noFill/>
          <a:ln cap="sq" w="381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81480" y="2941560"/>
            <a:ext cx="1144800" cy="106560"/>
          </a:xfrm>
          <a:custGeom>
            <a:avLst/>
            <a:gdLst/>
            <a:ahLst/>
            <a:rect l="l" t="t" r="r" b="b"/>
            <a:pathLst>
              <a:path w="721" h="67">
                <a:moveTo>
                  <a:pt x="0" y="67"/>
                </a:moveTo>
                <a:cubicBezTo>
                  <a:pt x="12" y="65"/>
                  <a:pt x="41" y="52"/>
                  <a:pt x="69" y="47"/>
                </a:cubicBezTo>
                <a:cubicBezTo>
                  <a:pt x="101" y="42"/>
                  <a:pt x="158" y="36"/>
                  <a:pt x="194" y="35"/>
                </a:cubicBezTo>
                <a:cubicBezTo>
                  <a:pt x="160" y="22"/>
                  <a:pt x="274" y="43"/>
                  <a:pt x="286" y="41"/>
                </a:cubicBezTo>
                <a:cubicBezTo>
                  <a:pt x="312" y="38"/>
                  <a:pt x="258" y="29"/>
                  <a:pt x="286" y="28"/>
                </a:cubicBezTo>
                <a:cubicBezTo>
                  <a:pt x="307" y="27"/>
                  <a:pt x="308" y="28"/>
                  <a:pt x="365" y="28"/>
                </a:cubicBezTo>
                <a:cubicBezTo>
                  <a:pt x="424" y="24"/>
                  <a:pt x="580" y="8"/>
                  <a:pt x="639" y="4"/>
                </a:cubicBezTo>
                <a:cubicBezTo>
                  <a:pt x="698" y="0"/>
                  <a:pt x="704" y="0"/>
                  <a:pt x="721" y="4"/>
                </a:cubicBezTo>
              </a:path>
            </a:pathLst>
          </a:custGeom>
          <a:noFill/>
          <a:ln cap="sq" w="381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4803A58-C4EA-4BD9-9262-96D79EE7061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828800" y="1447560"/>
            <a:ext cx="5967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CO</a:t>
            </a:r>
            <a:r>
              <a:rPr b="1" lang="en-US" sz="16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＞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6.67kPa(5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52480" y="213372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正常值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5.33±0.67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kPa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35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45mmHg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28800" y="27432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enderson-Hasselbac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公式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60520" y="36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Ka+lg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3448080"/>
            <a:ext cx="1295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2400" spc="-1" strike="noStrike" baseline="6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67080" y="3886200"/>
            <a:ext cx="1143000" cy="0"/>
          </a:xfrm>
          <a:prstGeom prst="line">
            <a:avLst/>
          </a:prstGeom>
          <a:ln cap="sq" w="2844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343400" y="388620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H</a:t>
            </a:r>
            <a:r>
              <a:rPr b="1" lang="en-US" sz="24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3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4648320"/>
            <a:ext cx="59054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大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mmHg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时，通过上述公式计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于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7.35</a:t>
            </a:r>
            <a:r>
              <a:rPr b="0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，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即发生了酸中毒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1752480" y="2382840"/>
            <a:ext cx="5715000" cy="3408480"/>
            <a:chOff x="1752480" y="2382840"/>
            <a:chExt cx="5715000" cy="3408480"/>
          </a:xfrm>
        </p:grpSpPr>
        <p:grpSp>
          <p:nvGrpSpPr>
            <p:cNvPr id="126" name=""/>
            <p:cNvGrpSpPr/>
            <p:nvPr/>
          </p:nvGrpSpPr>
          <p:grpSpPr>
            <a:xfrm>
              <a:off x="1752480" y="2382840"/>
              <a:ext cx="762120" cy="665280"/>
              <a:chOff x="1752480" y="2382840"/>
              <a:chExt cx="762120" cy="665280"/>
            </a:xfrm>
          </p:grpSpPr>
          <p:sp>
            <p:nvSpPr>
              <p:cNvPr id="127" name=""/>
              <p:cNvSpPr/>
              <p:nvPr/>
            </p:nvSpPr>
            <p:spPr>
              <a:xfrm>
                <a:off x="1758600" y="23940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752480" y="23828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796760" y="242208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64675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362320" y="2992320"/>
              <a:ext cx="4800600" cy="1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19520" y="2459160"/>
              <a:ext cx="464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根据</a:t>
              </a:r>
              <a:r>
                <a:rPr b="1" lang="en-US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PaO</a:t>
              </a:r>
              <a:r>
                <a:rPr b="1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2</a:t>
              </a: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和</a:t>
              </a:r>
              <a:r>
                <a:rPr b="1" lang="en-US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PaCO</a:t>
              </a:r>
              <a:r>
                <a:rPr b="1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2</a:t>
              </a: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的变化特点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951560" y="2481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1752480" y="3297240"/>
              <a:ext cx="761760" cy="665280"/>
              <a:chOff x="1752480" y="3297240"/>
              <a:chExt cx="761760" cy="665280"/>
            </a:xfrm>
          </p:grpSpPr>
          <p:sp>
            <p:nvSpPr>
              <p:cNvPr id="134" name=""/>
              <p:cNvSpPr/>
              <p:nvPr/>
            </p:nvSpPr>
            <p:spPr>
              <a:xfrm>
                <a:off x="1758600" y="33084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752480" y="3297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796760" y="333648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2b8a91"/>
                  </a:gs>
                  <a:gs pos="100000">
                    <a:srgbClr val="133f42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2362320" y="390672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819520" y="337356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根据发病机制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951560" y="3395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1752480" y="4189320"/>
              <a:ext cx="762120" cy="665280"/>
              <a:chOff x="1752480" y="4189320"/>
              <a:chExt cx="762120" cy="665280"/>
            </a:xfrm>
          </p:grpSpPr>
          <p:sp>
            <p:nvSpPr>
              <p:cNvPr id="141" name=""/>
              <p:cNvSpPr/>
              <p:nvPr/>
            </p:nvSpPr>
            <p:spPr>
              <a:xfrm>
                <a:off x="1758600" y="42004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752480" y="4189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796760" y="422856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64675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2362320" y="479916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19520" y="424656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根据原发病变部位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51560" y="428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1828800" y="5126040"/>
              <a:ext cx="761760" cy="665280"/>
              <a:chOff x="1828800" y="5126040"/>
              <a:chExt cx="761760" cy="665280"/>
            </a:xfrm>
          </p:grpSpPr>
          <p:sp>
            <p:nvSpPr>
              <p:cNvPr id="148" name=""/>
              <p:cNvSpPr/>
              <p:nvPr/>
            </p:nvSpPr>
            <p:spPr>
              <a:xfrm>
                <a:off x="1834920" y="5137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828800" y="51260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873080" y="516528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2b8a91"/>
                  </a:gs>
                  <a:gs pos="100000">
                    <a:srgbClr val="133f42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2438280" y="573552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19520" y="518328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根据病程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27520" y="522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3946680" y="1103400"/>
            <a:ext cx="1158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52480" y="144792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二、呼吸功能不全的分类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1066680" y="2895480"/>
            <a:ext cx="6096240" cy="3276720"/>
            <a:chOff x="1066680" y="2895480"/>
            <a:chExt cx="6096240" cy="3276720"/>
          </a:xfrm>
        </p:grpSpPr>
        <p:sp>
          <p:nvSpPr>
            <p:cNvPr id="157" name=""/>
            <p:cNvSpPr/>
            <p:nvPr/>
          </p:nvSpPr>
          <p:spPr>
            <a:xfrm>
              <a:off x="1066680" y="2895480"/>
              <a:ext cx="3657600" cy="327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9999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Ⅰ</a:t>
              </a:r>
              <a:r>
                <a:rPr b="1" lang="zh-CN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型呼衰</a:t>
              </a:r>
              <a:r>
                <a:rPr b="1" lang="en-US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: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9999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9999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Ⅱ</a:t>
              </a:r>
              <a:r>
                <a:rPr b="1" lang="zh-CN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型呼衰</a:t>
              </a:r>
              <a:r>
                <a:rPr b="1" lang="en-US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: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81280" y="2895480"/>
              <a:ext cx="2133720" cy="581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PaO</a:t>
              </a:r>
              <a:r>
                <a:rPr b="1" lang="en-US" sz="1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 </a:t>
              </a:r>
              <a:r>
                <a:rPr b="1" lang="en-US" sz="3200" spc="-1" strike="noStrike">
                  <a:solidFill>
                    <a:srgbClr val="ffcc00"/>
                  </a:solidFill>
                  <a:latin typeface="Arial"/>
                  <a:ea typeface="宋体"/>
                </a:rPr>
                <a:t>↓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81280" y="4419360"/>
              <a:ext cx="3581640" cy="6303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PaO</a:t>
              </a:r>
              <a:r>
                <a:rPr b="1" lang="en-US" sz="2800" spc="-1" strike="noStrike" baseline="-25000">
                  <a:solidFill>
                    <a:srgbClr val="ffcc00"/>
                  </a:solidFill>
                  <a:latin typeface="Times New Roman"/>
                  <a:ea typeface="宋体"/>
                </a:rPr>
                <a:t>2 </a:t>
              </a:r>
              <a:r>
                <a:rPr b="1" lang="en-US" sz="3200" spc="-1" strike="noStrike">
                  <a:solidFill>
                    <a:srgbClr val="ffcc00"/>
                  </a:solidFill>
                  <a:latin typeface="Arial"/>
                  <a:ea typeface="宋体"/>
                </a:rPr>
                <a:t>↓</a:t>
              </a:r>
              <a:r>
                <a:rPr b="1" lang="en-US" sz="2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    PaCO</a:t>
              </a:r>
              <a:r>
                <a:rPr b="1" lang="en-US" sz="2800" spc="-1" strike="noStrike" baseline="-25000">
                  <a:solidFill>
                    <a:srgbClr val="ffcc00"/>
                  </a:solidFill>
                  <a:latin typeface="Times New Roman"/>
                  <a:ea typeface="宋体"/>
                </a:rPr>
                <a:t>2 </a:t>
              </a:r>
              <a:r>
                <a:rPr b="1" lang="en-US" sz="3200" spc="-1" strike="noStrike">
                  <a:solidFill>
                    <a:srgbClr val="ffcc00"/>
                  </a:solidFill>
                  <a:latin typeface="Arial"/>
                  <a:ea typeface="宋体"/>
                </a:rPr>
                <a:t>↑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1066680" y="16765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根据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和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PaC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的变化特点分类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F9855AC-F2D5-425D-87A3-59D04403136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 rot="8074800">
            <a:off x="3778200" y="2620800"/>
            <a:ext cx="2513520" cy="250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407" y="934"/>
                </a:moveTo>
                <a:arcTo wR="10800" hR="10800" stAng="-6840245" swAng="8571046"/>
                <a:lnTo>
                  <a:pt x="10800" y="10800"/>
                </a:lnTo>
                <a:close/>
              </a:path>
              <a:path fill="none" w="21600" h="21600">
                <a:moveTo>
                  <a:pt x="6407" y="934"/>
                </a:moveTo>
                <a:arcTo wR="10800" hR="10800" stAng="-6840245" swAng="8571046"/>
              </a:path>
            </a:pathLst>
          </a:cu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第二节 呼吸功能不全的发病机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>
            <a:hlinkClick r:id="rId1" action="ppaction://hlinksldjump"/>
          </p:cNvPr>
          <p:cNvSpPr/>
          <p:nvPr/>
        </p:nvSpPr>
        <p:spPr>
          <a:xfrm>
            <a:off x="5638680" y="58672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528d"/>
                </a:solidFill>
                <a:latin typeface="Times New Roman"/>
                <a:ea typeface="宋体"/>
              </a:rPr>
              <a:t>CO</a:t>
            </a:r>
            <a:r>
              <a:rPr b="1" lang="en-US" sz="16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">
            <a:hlinkClick r:id="rId2" action="ppaction://hlinksldjump"/>
          </p:cNvPr>
          <p:cNvSpPr/>
          <p:nvPr/>
        </p:nvSpPr>
        <p:spPr>
          <a:xfrm>
            <a:off x="6629400" y="61722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267080" y="121932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87840" y="2587680"/>
            <a:ext cx="1209600" cy="2085840"/>
          </a:xfrm>
          <a:custGeom>
            <a:avLst/>
            <a:gdLst/>
            <a:ahLst/>
            <a:rect l="l" t="t" r="r" b="b"/>
            <a:pathLst>
              <a:path w="762" h="1314">
                <a:moveTo>
                  <a:pt x="474" y="98"/>
                </a:moveTo>
                <a:cubicBezTo>
                  <a:pt x="414" y="124"/>
                  <a:pt x="349" y="162"/>
                  <a:pt x="306" y="205"/>
                </a:cubicBezTo>
                <a:cubicBezTo>
                  <a:pt x="263" y="248"/>
                  <a:pt x="261" y="269"/>
                  <a:pt x="216" y="359"/>
                </a:cubicBezTo>
                <a:cubicBezTo>
                  <a:pt x="171" y="449"/>
                  <a:pt x="70" y="634"/>
                  <a:pt x="35" y="745"/>
                </a:cubicBezTo>
                <a:cubicBezTo>
                  <a:pt x="0" y="856"/>
                  <a:pt x="4" y="937"/>
                  <a:pt x="4" y="1027"/>
                </a:cubicBezTo>
                <a:cubicBezTo>
                  <a:pt x="4" y="1117"/>
                  <a:pt x="0" y="1254"/>
                  <a:pt x="35" y="1284"/>
                </a:cubicBezTo>
                <a:cubicBezTo>
                  <a:pt x="70" y="1314"/>
                  <a:pt x="156" y="1233"/>
                  <a:pt x="216" y="1207"/>
                </a:cubicBezTo>
                <a:cubicBezTo>
                  <a:pt x="276" y="1182"/>
                  <a:pt x="321" y="1143"/>
                  <a:pt x="397" y="1130"/>
                </a:cubicBezTo>
                <a:cubicBezTo>
                  <a:pt x="472" y="1117"/>
                  <a:pt x="622" y="1182"/>
                  <a:pt x="668" y="1130"/>
                </a:cubicBezTo>
                <a:cubicBezTo>
                  <a:pt x="713" y="1079"/>
                  <a:pt x="659" y="898"/>
                  <a:pt x="668" y="822"/>
                </a:cubicBezTo>
                <a:cubicBezTo>
                  <a:pt x="677" y="746"/>
                  <a:pt x="710" y="724"/>
                  <a:pt x="721" y="674"/>
                </a:cubicBezTo>
                <a:cubicBezTo>
                  <a:pt x="732" y="624"/>
                  <a:pt x="727" y="573"/>
                  <a:pt x="733" y="521"/>
                </a:cubicBezTo>
                <a:cubicBezTo>
                  <a:pt x="739" y="469"/>
                  <a:pt x="762" y="414"/>
                  <a:pt x="758" y="359"/>
                </a:cubicBezTo>
                <a:cubicBezTo>
                  <a:pt x="754" y="304"/>
                  <a:pt x="732" y="249"/>
                  <a:pt x="710" y="192"/>
                </a:cubicBezTo>
                <a:cubicBezTo>
                  <a:pt x="688" y="135"/>
                  <a:pt x="666" y="32"/>
                  <a:pt x="627" y="16"/>
                </a:cubicBezTo>
                <a:cubicBezTo>
                  <a:pt x="588" y="0"/>
                  <a:pt x="506" y="81"/>
                  <a:pt x="474" y="98"/>
                </a:cubicBezTo>
                <a:close/>
              </a:path>
            </a:pathLst>
          </a:custGeom>
          <a:solidFill>
            <a:srgbClr val="ffcc99"/>
          </a:solidFill>
          <a:ln w="25560">
            <a:solidFill>
              <a:srgbClr val="2b8a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2590920"/>
            <a:ext cx="1285920" cy="2141280"/>
          </a:xfrm>
          <a:custGeom>
            <a:avLst/>
            <a:gdLst/>
            <a:ahLst/>
            <a:rect l="l" t="t" r="r" b="b"/>
            <a:pathLst>
              <a:path w="810" h="1349">
                <a:moveTo>
                  <a:pt x="316" y="78"/>
                </a:moveTo>
                <a:cubicBezTo>
                  <a:pt x="373" y="108"/>
                  <a:pt x="439" y="156"/>
                  <a:pt x="482" y="203"/>
                </a:cubicBezTo>
                <a:cubicBezTo>
                  <a:pt x="525" y="250"/>
                  <a:pt x="548" y="319"/>
                  <a:pt x="577" y="363"/>
                </a:cubicBezTo>
                <a:cubicBezTo>
                  <a:pt x="606" y="407"/>
                  <a:pt x="625" y="399"/>
                  <a:pt x="657" y="466"/>
                </a:cubicBezTo>
                <a:cubicBezTo>
                  <a:pt x="689" y="533"/>
                  <a:pt x="742" y="659"/>
                  <a:pt x="767" y="763"/>
                </a:cubicBezTo>
                <a:cubicBezTo>
                  <a:pt x="792" y="867"/>
                  <a:pt x="810" y="996"/>
                  <a:pt x="810" y="1089"/>
                </a:cubicBezTo>
                <a:cubicBezTo>
                  <a:pt x="810" y="1182"/>
                  <a:pt x="806" y="1297"/>
                  <a:pt x="767" y="1323"/>
                </a:cubicBezTo>
                <a:cubicBezTo>
                  <a:pt x="728" y="1349"/>
                  <a:pt x="654" y="1264"/>
                  <a:pt x="577" y="1243"/>
                </a:cubicBezTo>
                <a:cubicBezTo>
                  <a:pt x="500" y="1222"/>
                  <a:pt x="357" y="1238"/>
                  <a:pt x="304" y="1195"/>
                </a:cubicBezTo>
                <a:cubicBezTo>
                  <a:pt x="251" y="1152"/>
                  <a:pt x="290" y="1052"/>
                  <a:pt x="257" y="984"/>
                </a:cubicBezTo>
                <a:cubicBezTo>
                  <a:pt x="224" y="916"/>
                  <a:pt x="143" y="831"/>
                  <a:pt x="104" y="784"/>
                </a:cubicBezTo>
                <a:cubicBezTo>
                  <a:pt x="65" y="737"/>
                  <a:pt x="36" y="741"/>
                  <a:pt x="22" y="702"/>
                </a:cubicBezTo>
                <a:cubicBezTo>
                  <a:pt x="8" y="663"/>
                  <a:pt x="25" y="605"/>
                  <a:pt x="22" y="549"/>
                </a:cubicBezTo>
                <a:cubicBezTo>
                  <a:pt x="19" y="493"/>
                  <a:pt x="0" y="422"/>
                  <a:pt x="6" y="363"/>
                </a:cubicBezTo>
                <a:cubicBezTo>
                  <a:pt x="12" y="304"/>
                  <a:pt x="35" y="253"/>
                  <a:pt x="57" y="196"/>
                </a:cubicBezTo>
                <a:cubicBezTo>
                  <a:pt x="79" y="139"/>
                  <a:pt x="97" y="40"/>
                  <a:pt x="140" y="20"/>
                </a:cubicBezTo>
                <a:cubicBezTo>
                  <a:pt x="183" y="0"/>
                  <a:pt x="259" y="48"/>
                  <a:pt x="316" y="78"/>
                </a:cubicBezTo>
                <a:close/>
              </a:path>
            </a:pathLst>
          </a:custGeom>
          <a:solidFill>
            <a:srgbClr val="ffcc99"/>
          </a:solidFill>
          <a:ln w="25560">
            <a:solidFill>
              <a:srgbClr val="2b8a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86200" y="36720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715000" y="37339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915080" y="1771560"/>
            <a:ext cx="228600" cy="1409760"/>
          </a:xfrm>
          <a:prstGeom prst="flowChartTerminator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rot="2600400">
            <a:off x="5028480" y="3200040"/>
            <a:ext cx="257040" cy="74520"/>
          </a:xfrm>
          <a:prstGeom prst="flowChartTerminator">
            <a:avLst/>
          </a:prstGeom>
          <a:solidFill>
            <a:srgbClr val="ffcc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18522600">
            <a:off x="4761720" y="3201120"/>
            <a:ext cx="257040" cy="74520"/>
          </a:xfrm>
          <a:prstGeom prst="flowChartTerminator">
            <a:avLst/>
          </a:prstGeom>
          <a:solidFill>
            <a:srgbClr val="ffcc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5400000">
            <a:off x="4343040" y="2133360"/>
            <a:ext cx="1295640" cy="76320"/>
          </a:xfrm>
          <a:custGeom>
            <a:avLst/>
            <a:gdLst>
              <a:gd name="textAreaLeft" fmla="*/ 162000 w 1295640"/>
              <a:gd name="textAreaRight" fmla="*/ 1134000 w 1295640"/>
              <a:gd name="textAreaTop" fmla="*/ 19080 h 76320"/>
              <a:gd name="textAreaBottom" fmla="*/ 57240 h 76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2b8a91"/>
          </a:solidFill>
          <a:ln cap="sq" w="1260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476600" y="3124080"/>
            <a:ext cx="533520" cy="609840"/>
          </a:xfrm>
          <a:prstGeom prst="line">
            <a:avLst/>
          </a:prstGeom>
          <a:ln cap="sq" w="28440">
            <a:solidFill>
              <a:srgbClr val="1d528d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5028840" y="3066840"/>
            <a:ext cx="609480" cy="533160"/>
          </a:xfrm>
          <a:prstGeom prst="line">
            <a:avLst/>
          </a:prstGeom>
          <a:ln cap="sq" w="28440">
            <a:solidFill>
              <a:srgbClr val="1d528d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83080" y="5292720"/>
            <a:ext cx="2735280" cy="977760"/>
          </a:xfrm>
          <a:custGeom>
            <a:avLst/>
            <a:gdLst/>
            <a:ahLst/>
            <a:rect l="l" t="t" r="r" b="b"/>
            <a:pathLst>
              <a:path w="1723" h="616">
                <a:moveTo>
                  <a:pt x="129" y="99"/>
                </a:moveTo>
                <a:cubicBezTo>
                  <a:pt x="165" y="75"/>
                  <a:pt x="246" y="45"/>
                  <a:pt x="278" y="41"/>
                </a:cubicBezTo>
                <a:cubicBezTo>
                  <a:pt x="315" y="30"/>
                  <a:pt x="317" y="29"/>
                  <a:pt x="348" y="31"/>
                </a:cubicBezTo>
                <a:cubicBezTo>
                  <a:pt x="440" y="0"/>
                  <a:pt x="446" y="43"/>
                  <a:pt x="467" y="52"/>
                </a:cubicBezTo>
                <a:cubicBezTo>
                  <a:pt x="491" y="60"/>
                  <a:pt x="470" y="26"/>
                  <a:pt x="489" y="23"/>
                </a:cubicBezTo>
                <a:lnTo>
                  <a:pt x="584" y="41"/>
                </a:lnTo>
                <a:lnTo>
                  <a:pt x="680" y="71"/>
                </a:lnTo>
                <a:lnTo>
                  <a:pt x="729" y="75"/>
                </a:lnTo>
                <a:lnTo>
                  <a:pt x="893" y="98"/>
                </a:lnTo>
                <a:lnTo>
                  <a:pt x="1034" y="75"/>
                </a:lnTo>
                <a:lnTo>
                  <a:pt x="1105" y="63"/>
                </a:lnTo>
                <a:lnTo>
                  <a:pt x="1140" y="51"/>
                </a:lnTo>
                <a:lnTo>
                  <a:pt x="1208" y="42"/>
                </a:lnTo>
                <a:lnTo>
                  <a:pt x="1336" y="24"/>
                </a:lnTo>
                <a:lnTo>
                  <a:pt x="1396" y="25"/>
                </a:lnTo>
                <a:lnTo>
                  <a:pt x="1492" y="19"/>
                </a:lnTo>
                <a:lnTo>
                  <a:pt x="1621" y="66"/>
                </a:lnTo>
                <a:lnTo>
                  <a:pt x="1710" y="179"/>
                </a:lnTo>
                <a:lnTo>
                  <a:pt x="1714" y="238"/>
                </a:lnTo>
                <a:lnTo>
                  <a:pt x="1717" y="297"/>
                </a:lnTo>
                <a:lnTo>
                  <a:pt x="1723" y="402"/>
                </a:lnTo>
                <a:lnTo>
                  <a:pt x="1622" y="569"/>
                </a:lnTo>
                <a:lnTo>
                  <a:pt x="1422" y="604"/>
                </a:lnTo>
                <a:lnTo>
                  <a:pt x="1164" y="604"/>
                </a:lnTo>
                <a:lnTo>
                  <a:pt x="917" y="580"/>
                </a:lnTo>
                <a:lnTo>
                  <a:pt x="717" y="604"/>
                </a:lnTo>
                <a:lnTo>
                  <a:pt x="588" y="616"/>
                </a:lnTo>
                <a:lnTo>
                  <a:pt x="458" y="616"/>
                </a:lnTo>
                <a:lnTo>
                  <a:pt x="285" y="588"/>
                </a:lnTo>
                <a:lnTo>
                  <a:pt x="262" y="613"/>
                </a:lnTo>
                <a:lnTo>
                  <a:pt x="134" y="550"/>
                </a:lnTo>
                <a:lnTo>
                  <a:pt x="30" y="461"/>
                </a:lnTo>
                <a:lnTo>
                  <a:pt x="2" y="380"/>
                </a:lnTo>
                <a:lnTo>
                  <a:pt x="0" y="263"/>
                </a:lnTo>
                <a:lnTo>
                  <a:pt x="47" y="146"/>
                </a:lnTo>
                <a:lnTo>
                  <a:pt x="129" y="99"/>
                </a:lnTo>
                <a:close/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19720" y="4114800"/>
            <a:ext cx="380880" cy="1905120"/>
          </a:xfrm>
          <a:custGeom>
            <a:avLst/>
            <a:gdLst>
              <a:gd name="textAreaLeft" fmla="*/ 50760 w 380880"/>
              <a:gd name="textAreaRight" fmla="*/ 330120 w 380880"/>
              <a:gd name="textAreaTop" fmla="*/ 389160 h 1905120"/>
              <a:gd name="textAreaBottom" fmla="*/ 132516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29" stAng="-5400000" swAng="5400000"/>
                <a:lnTo>
                  <a:pt x="21600" y="10611"/>
                </a:lnTo>
                <a:arcTo wR="21600" hR="8829" stAng="0" swAng="2948486"/>
                <a:lnTo>
                  <a:pt x="7200" y="21095"/>
                </a:lnTo>
                <a:lnTo>
                  <a:pt x="0" y="18549"/>
                </a:lnTo>
                <a:lnTo>
                  <a:pt x="7200" y="14993"/>
                </a:lnTo>
                <a:lnTo>
                  <a:pt x="7200" y="17153"/>
                </a:lnTo>
                <a:arcTo wR="21600" hR="8829" stAng="2948486" swAng="-2806032"/>
                <a:lnTo>
                  <a:pt x="21490" y="9720"/>
                </a:lnTo>
                <a:arcTo wR="21600" hR="8829" stAng="-142453" swAng="-5257547"/>
                <a:close/>
              </a:path>
              <a:path fill="darkenLess" w="21600" h="21600">
                <a:moveTo>
                  <a:pt x="0" y="0"/>
                </a:moveTo>
                <a:arcTo wR="21600" hR="8829" stAng="-5400000" swAng="5400000"/>
                <a:lnTo>
                  <a:pt x="21600" y="10611"/>
                </a:lnTo>
                <a:arcTo wR="21600" hR="8829" stAng="0" swAng="-142453"/>
                <a:lnTo>
                  <a:pt x="21490" y="9720"/>
                </a:lnTo>
                <a:arcTo wR="21600" hR="8829" stAng="-142453" swAng="-5257547"/>
                <a:close/>
              </a:path>
            </a:pathLst>
          </a:custGeom>
          <a:solidFill>
            <a:srgbClr val="2b8a91"/>
          </a:solidFill>
          <a:ln w="5724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81280" y="5715000"/>
            <a:ext cx="1067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528d"/>
                </a:solidFill>
                <a:latin typeface="Times New Roman"/>
                <a:ea typeface="宋体"/>
              </a:rPr>
              <a:t>HbO</a:t>
            </a:r>
            <a:r>
              <a:rPr b="1" lang="en-US" sz="16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5390280" y="3961800"/>
            <a:ext cx="381240" cy="1904760"/>
          </a:xfrm>
          <a:custGeom>
            <a:avLst/>
            <a:gdLst>
              <a:gd name="textAreaLeft" fmla="*/ 51120 w 381240"/>
              <a:gd name="textAreaRight" fmla="*/ 330120 w 381240"/>
              <a:gd name="textAreaTop" fmla="*/ 388800 h 1904760"/>
              <a:gd name="textAreaBottom" fmla="*/ 132480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29" stAng="-5400000" swAng="5400000"/>
                <a:lnTo>
                  <a:pt x="21600" y="10611"/>
                </a:lnTo>
                <a:arcTo wR="21600" hR="8829" stAng="0" swAng="2948486"/>
                <a:lnTo>
                  <a:pt x="7200" y="21095"/>
                </a:lnTo>
                <a:lnTo>
                  <a:pt x="0" y="18549"/>
                </a:lnTo>
                <a:lnTo>
                  <a:pt x="7200" y="14993"/>
                </a:lnTo>
                <a:lnTo>
                  <a:pt x="7200" y="17153"/>
                </a:lnTo>
                <a:arcTo wR="21600" hR="8829" stAng="2948486" swAng="-2806032"/>
                <a:lnTo>
                  <a:pt x="21490" y="9720"/>
                </a:lnTo>
                <a:arcTo wR="21600" hR="8829" stAng="-142453" swAng="-5257547"/>
                <a:close/>
              </a:path>
              <a:path fill="darkenLess" w="21600" h="21600">
                <a:moveTo>
                  <a:pt x="0" y="0"/>
                </a:moveTo>
                <a:arcTo wR="21600" hR="8829" stAng="-5400000" swAng="5400000"/>
                <a:lnTo>
                  <a:pt x="21600" y="10611"/>
                </a:lnTo>
                <a:arcTo wR="21600" hR="8829" stAng="0" swAng="-142453"/>
                <a:lnTo>
                  <a:pt x="21490" y="9720"/>
                </a:lnTo>
                <a:arcTo wR="21600" hR="8829" stAng="-142453" swAng="-5257547"/>
                <a:close/>
              </a:path>
            </a:pathLst>
          </a:custGeom>
          <a:solidFill>
            <a:srgbClr val="2b8a91"/>
          </a:solidFill>
          <a:ln w="5724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 rot="16200000">
            <a:off x="4419360" y="2132640"/>
            <a:ext cx="1295640" cy="76320"/>
          </a:xfrm>
          <a:custGeom>
            <a:avLst/>
            <a:gdLst>
              <a:gd name="textAreaLeft" fmla="*/ 162000 w 1295640"/>
              <a:gd name="textAreaRight" fmla="*/ 1134000 w 1295640"/>
              <a:gd name="textAreaTop" fmla="*/ 19080 h 76320"/>
              <a:gd name="textAreaBottom" fmla="*/ 57240 h 76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2b8a91"/>
          </a:solidFill>
          <a:ln cap="sq" w="1260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00560" y="1162080"/>
            <a:ext cx="914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074800">
            <a:off x="2609640" y="1970640"/>
            <a:ext cx="4534920" cy="481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86" y="659"/>
                </a:moveTo>
                <a:arcTo wR="10800" hR="10800" stAng="-6606981" swAng="7719099"/>
                <a:lnTo>
                  <a:pt x="10800" y="10800"/>
                </a:lnTo>
                <a:close/>
              </a:path>
              <a:path fill="none" w="21600" h="21600">
                <a:moveTo>
                  <a:pt x="7086" y="659"/>
                </a:moveTo>
                <a:arcTo wR="10800" hR="10800" stAng="-6606981" swAng="7719099"/>
              </a:path>
            </a:pathLst>
          </a:cu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00200" y="2514600"/>
            <a:ext cx="220968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33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1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功能障碍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676520" y="4403880"/>
            <a:ext cx="20574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33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弥散功能障碍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95280" y="5410080"/>
            <a:ext cx="20574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33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3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／血流失调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7C3224D1-D7AA-4040-BC44-5FEBBDFDDCB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/>
  <dc:description/>
  <cp:keywords/>
  <dc:language>en-US</dc:language>
  <cp:lastModifiedBy>hzg</cp:lastModifiedBy>
  <dcterms:modified xsi:type="dcterms:W3CDTF">2014-04-22T02:38:56Z</dcterms:modified>
  <cp:revision>152</cp:revision>
  <dc:subject/>
  <dc:title>ppt.glzy8.com提供海量PPT模板免费下载！</dc:title>
</cp:coreProperties>
</file>